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282680" indent="-22860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70172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120760" indent="-22860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" name="Logo" descr=""/>
          <p:cNvPicPr/>
          <p:nvPr/>
        </p:nvPicPr>
        <p:blipFill>
          <a:blip r:embed="rId2"/>
          <a:stretch/>
        </p:blipFill>
        <p:spPr>
          <a:xfrm>
            <a:off x="76320" y="6218280"/>
            <a:ext cx="914400" cy="59832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478720" y="6242040"/>
            <a:ext cx="592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3B8C7-F19F-45F3-9AAB-6EA9467B6693}" type="slidenum">
              <a:rPr b="0" lang="en-GB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5048280" y="6410160"/>
            <a:ext cx="1219320" cy="2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April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971640" y="6404040"/>
            <a:ext cx="289548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teel Construction Instit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60560" y="6281640"/>
            <a:ext cx="7458120" cy="936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139680" algn="ctr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101520" algn="ctr">
              <a:spcBef>
                <a:spcPts val="451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63360" algn="ctr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63360"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63360"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87280" y="123840"/>
            <a:ext cx="6305760" cy="9460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3333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IS/2 Implementation Workshop III,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3-7 April, Asco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403200" y="5000760"/>
          <a:ext cx="7238880" cy="165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5000760"/>
                    <a:ext cx="7238880" cy="16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" name=""/>
          <p:cNvSpPr/>
          <p:nvPr/>
        </p:nvSpPr>
        <p:spPr>
          <a:xfrm>
            <a:off x="6550200" y="291960"/>
            <a:ext cx="233820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361440" y="1866960"/>
            <a:ext cx="8458200" cy="27050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3300"/>
            </a:outerShdw>
          </a:effectLst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Session 1.7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ISO 10303-21: 1994</a:t>
            </a:r>
            <a:br>
              <a:rPr sz="4400"/>
            </a:b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An Introduction to the STEP Physical File Form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03120" y="4762440"/>
            <a:ext cx="8562960" cy="1080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3120" y="1162080"/>
            <a:ext cx="8562960" cy="10800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562200" y="4910040"/>
            <a:ext cx="342900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Univers"/>
              </a:rPr>
              <a:t>Dr A.J. Crowl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he Data Sec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ontains instances of entities that correspond to the EXPRESS schema governing the exchange structure in the header section.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ix simple data types are used: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NTEGER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REAL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TRING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TITY instance name (i.e. the # number)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UMERATION, and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BINARY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pping to the Data Sec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39680" y="4090680"/>
            <a:ext cx="8858160" cy="208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form of the product data in the exchange structure is specified by using a mapping from the EXPRESS language.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4629240" y="1533600"/>
            <a:ext cx="2743200" cy="2668680"/>
            <a:chOff x="4629240" y="1533600"/>
            <a:chExt cx="2743200" cy="2668680"/>
          </a:xfrm>
        </p:grpSpPr>
        <p:sp>
          <p:nvSpPr>
            <p:cNvPr id="131" name=""/>
            <p:cNvSpPr/>
            <p:nvPr/>
          </p:nvSpPr>
          <p:spPr>
            <a:xfrm>
              <a:off x="4629240" y="153360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0" y="351"/>
                  </a:moveTo>
                  <a:lnTo>
                    <a:pt x="0" y="0"/>
                  </a:lnTo>
                  <a:lnTo>
                    <a:pt x="1726" y="0"/>
                  </a:lnTo>
                  <a:lnTo>
                    <a:pt x="1728" y="1343"/>
                  </a:lnTo>
                  <a:lnTo>
                    <a:pt x="1578" y="1343"/>
                  </a:lnTo>
                  <a:lnTo>
                    <a:pt x="1572" y="1355"/>
                  </a:lnTo>
                  <a:lnTo>
                    <a:pt x="1567" y="1371"/>
                  </a:lnTo>
                  <a:lnTo>
                    <a:pt x="1567" y="1385"/>
                  </a:lnTo>
                  <a:lnTo>
                    <a:pt x="1569" y="1401"/>
                  </a:lnTo>
                  <a:lnTo>
                    <a:pt x="1575" y="1422"/>
                  </a:lnTo>
                  <a:lnTo>
                    <a:pt x="1581" y="1449"/>
                  </a:lnTo>
                  <a:lnTo>
                    <a:pt x="1587" y="1467"/>
                  </a:lnTo>
                  <a:lnTo>
                    <a:pt x="1591" y="1490"/>
                  </a:lnTo>
                  <a:lnTo>
                    <a:pt x="1594" y="1511"/>
                  </a:lnTo>
                  <a:lnTo>
                    <a:pt x="1594" y="1532"/>
                  </a:lnTo>
                  <a:lnTo>
                    <a:pt x="1591" y="1551"/>
                  </a:lnTo>
                  <a:lnTo>
                    <a:pt x="1587" y="1572"/>
                  </a:lnTo>
                  <a:lnTo>
                    <a:pt x="1579" y="1591"/>
                  </a:lnTo>
                  <a:lnTo>
                    <a:pt x="1567" y="1606"/>
                  </a:lnTo>
                  <a:lnTo>
                    <a:pt x="1551" y="1624"/>
                  </a:lnTo>
                  <a:lnTo>
                    <a:pt x="1534" y="1638"/>
                  </a:lnTo>
                  <a:lnTo>
                    <a:pt x="1519" y="1651"/>
                  </a:lnTo>
                  <a:lnTo>
                    <a:pt x="1501" y="1662"/>
                  </a:lnTo>
                  <a:lnTo>
                    <a:pt x="1480" y="1669"/>
                  </a:lnTo>
                  <a:lnTo>
                    <a:pt x="1455" y="1677"/>
                  </a:lnTo>
                  <a:lnTo>
                    <a:pt x="1431" y="1680"/>
                  </a:lnTo>
                  <a:lnTo>
                    <a:pt x="1410" y="1681"/>
                  </a:lnTo>
                  <a:lnTo>
                    <a:pt x="1387" y="1681"/>
                  </a:lnTo>
                  <a:lnTo>
                    <a:pt x="1367" y="1680"/>
                  </a:lnTo>
                  <a:lnTo>
                    <a:pt x="1350" y="1677"/>
                  </a:lnTo>
                  <a:lnTo>
                    <a:pt x="1331" y="1671"/>
                  </a:lnTo>
                  <a:lnTo>
                    <a:pt x="1311" y="1665"/>
                  </a:lnTo>
                  <a:lnTo>
                    <a:pt x="1296" y="1656"/>
                  </a:lnTo>
                  <a:lnTo>
                    <a:pt x="1280" y="1644"/>
                  </a:lnTo>
                  <a:lnTo>
                    <a:pt x="1265" y="1629"/>
                  </a:lnTo>
                  <a:lnTo>
                    <a:pt x="1250" y="1612"/>
                  </a:lnTo>
                  <a:lnTo>
                    <a:pt x="1236" y="1596"/>
                  </a:lnTo>
                  <a:lnTo>
                    <a:pt x="1226" y="1578"/>
                  </a:lnTo>
                  <a:lnTo>
                    <a:pt x="1218" y="1556"/>
                  </a:lnTo>
                  <a:lnTo>
                    <a:pt x="1212" y="1530"/>
                  </a:lnTo>
                  <a:lnTo>
                    <a:pt x="1212" y="1506"/>
                  </a:lnTo>
                  <a:lnTo>
                    <a:pt x="1218" y="1482"/>
                  </a:lnTo>
                  <a:lnTo>
                    <a:pt x="1224" y="1458"/>
                  </a:lnTo>
                  <a:lnTo>
                    <a:pt x="1230" y="1434"/>
                  </a:lnTo>
                  <a:lnTo>
                    <a:pt x="1238" y="1407"/>
                  </a:lnTo>
                  <a:lnTo>
                    <a:pt x="1241" y="1386"/>
                  </a:lnTo>
                  <a:lnTo>
                    <a:pt x="1241" y="1374"/>
                  </a:lnTo>
                  <a:lnTo>
                    <a:pt x="1239" y="1364"/>
                  </a:lnTo>
                  <a:lnTo>
                    <a:pt x="1235" y="1352"/>
                  </a:lnTo>
                  <a:lnTo>
                    <a:pt x="947" y="1352"/>
                  </a:lnTo>
                  <a:lnTo>
                    <a:pt x="952" y="1301"/>
                  </a:lnTo>
                  <a:lnTo>
                    <a:pt x="950" y="1272"/>
                  </a:lnTo>
                  <a:lnTo>
                    <a:pt x="947" y="1245"/>
                  </a:lnTo>
                  <a:lnTo>
                    <a:pt x="944" y="1220"/>
                  </a:lnTo>
                  <a:lnTo>
                    <a:pt x="940" y="1203"/>
                  </a:lnTo>
                  <a:lnTo>
                    <a:pt x="932" y="1188"/>
                  </a:lnTo>
                  <a:lnTo>
                    <a:pt x="923" y="1175"/>
                  </a:lnTo>
                  <a:lnTo>
                    <a:pt x="908" y="1163"/>
                  </a:lnTo>
                  <a:lnTo>
                    <a:pt x="892" y="1153"/>
                  </a:lnTo>
                  <a:lnTo>
                    <a:pt x="875" y="1147"/>
                  </a:lnTo>
                  <a:lnTo>
                    <a:pt x="860" y="1144"/>
                  </a:lnTo>
                  <a:lnTo>
                    <a:pt x="835" y="1142"/>
                  </a:lnTo>
                  <a:lnTo>
                    <a:pt x="805" y="1142"/>
                  </a:lnTo>
                  <a:lnTo>
                    <a:pt x="776" y="1145"/>
                  </a:lnTo>
                  <a:lnTo>
                    <a:pt x="745" y="1147"/>
                  </a:lnTo>
                  <a:lnTo>
                    <a:pt x="721" y="1150"/>
                  </a:lnTo>
                  <a:lnTo>
                    <a:pt x="689" y="1151"/>
                  </a:lnTo>
                  <a:lnTo>
                    <a:pt x="664" y="1150"/>
                  </a:lnTo>
                  <a:lnTo>
                    <a:pt x="641" y="1147"/>
                  </a:lnTo>
                  <a:lnTo>
                    <a:pt x="607" y="1139"/>
                  </a:lnTo>
                  <a:lnTo>
                    <a:pt x="585" y="1129"/>
                  </a:lnTo>
                  <a:lnTo>
                    <a:pt x="564" y="1114"/>
                  </a:lnTo>
                  <a:lnTo>
                    <a:pt x="550" y="1097"/>
                  </a:lnTo>
                  <a:lnTo>
                    <a:pt x="538" y="1079"/>
                  </a:lnTo>
                  <a:lnTo>
                    <a:pt x="529" y="1057"/>
                  </a:lnTo>
                  <a:lnTo>
                    <a:pt x="528" y="1033"/>
                  </a:lnTo>
                  <a:lnTo>
                    <a:pt x="528" y="1003"/>
                  </a:lnTo>
                  <a:lnTo>
                    <a:pt x="529" y="980"/>
                  </a:lnTo>
                  <a:lnTo>
                    <a:pt x="528" y="958"/>
                  </a:lnTo>
                  <a:lnTo>
                    <a:pt x="522" y="932"/>
                  </a:lnTo>
                  <a:lnTo>
                    <a:pt x="517" y="917"/>
                  </a:lnTo>
                  <a:lnTo>
                    <a:pt x="510" y="902"/>
                  </a:lnTo>
                  <a:lnTo>
                    <a:pt x="501" y="892"/>
                  </a:lnTo>
                  <a:lnTo>
                    <a:pt x="492" y="883"/>
                  </a:lnTo>
                  <a:lnTo>
                    <a:pt x="472" y="874"/>
                  </a:lnTo>
                  <a:lnTo>
                    <a:pt x="450" y="863"/>
                  </a:lnTo>
                  <a:lnTo>
                    <a:pt x="424" y="856"/>
                  </a:lnTo>
                  <a:lnTo>
                    <a:pt x="394" y="848"/>
                  </a:lnTo>
                  <a:lnTo>
                    <a:pt x="364" y="842"/>
                  </a:lnTo>
                  <a:lnTo>
                    <a:pt x="333" y="838"/>
                  </a:lnTo>
                  <a:lnTo>
                    <a:pt x="310" y="830"/>
                  </a:lnTo>
                  <a:lnTo>
                    <a:pt x="286" y="823"/>
                  </a:lnTo>
                  <a:lnTo>
                    <a:pt x="262" y="814"/>
                  </a:lnTo>
                  <a:lnTo>
                    <a:pt x="246" y="800"/>
                  </a:lnTo>
                  <a:lnTo>
                    <a:pt x="226" y="784"/>
                  </a:lnTo>
                  <a:lnTo>
                    <a:pt x="213" y="769"/>
                  </a:lnTo>
                  <a:lnTo>
                    <a:pt x="201" y="751"/>
                  </a:lnTo>
                  <a:lnTo>
                    <a:pt x="192" y="730"/>
                  </a:lnTo>
                  <a:lnTo>
                    <a:pt x="189" y="708"/>
                  </a:lnTo>
                  <a:lnTo>
                    <a:pt x="189" y="687"/>
                  </a:lnTo>
                  <a:lnTo>
                    <a:pt x="194" y="667"/>
                  </a:lnTo>
                  <a:lnTo>
                    <a:pt x="201" y="639"/>
                  </a:lnTo>
                  <a:lnTo>
                    <a:pt x="208" y="610"/>
                  </a:lnTo>
                  <a:lnTo>
                    <a:pt x="211" y="585"/>
                  </a:lnTo>
                  <a:lnTo>
                    <a:pt x="217" y="559"/>
                  </a:lnTo>
                  <a:lnTo>
                    <a:pt x="220" y="534"/>
                  </a:lnTo>
                  <a:lnTo>
                    <a:pt x="217" y="507"/>
                  </a:lnTo>
                  <a:lnTo>
                    <a:pt x="211" y="483"/>
                  </a:lnTo>
                  <a:lnTo>
                    <a:pt x="202" y="459"/>
                  </a:lnTo>
                  <a:lnTo>
                    <a:pt x="191" y="436"/>
                  </a:lnTo>
                  <a:lnTo>
                    <a:pt x="177" y="418"/>
                  </a:lnTo>
                  <a:lnTo>
                    <a:pt x="170" y="408"/>
                  </a:lnTo>
                  <a:lnTo>
                    <a:pt x="156" y="394"/>
                  </a:lnTo>
                  <a:lnTo>
                    <a:pt x="143" y="383"/>
                  </a:lnTo>
                  <a:lnTo>
                    <a:pt x="129" y="374"/>
                  </a:lnTo>
                  <a:lnTo>
                    <a:pt x="111" y="365"/>
                  </a:lnTo>
                  <a:lnTo>
                    <a:pt x="93" y="359"/>
                  </a:lnTo>
                  <a:lnTo>
                    <a:pt x="71" y="353"/>
                  </a:lnTo>
                  <a:lnTo>
                    <a:pt x="45" y="351"/>
                  </a:lnTo>
                  <a:lnTo>
                    <a:pt x="23" y="351"/>
                  </a:lnTo>
                  <a:lnTo>
                    <a:pt x="0" y="351"/>
                  </a:lnTo>
                  <a:close/>
                </a:path>
              </a:pathLst>
            </a:custGeom>
            <a:solidFill>
              <a:srgbClr val="cc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946040" y="1619280"/>
              <a:ext cx="2386080" cy="16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21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Physical Fil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Forma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1874880" y="1533600"/>
            <a:ext cx="2754360" cy="2236680"/>
            <a:chOff x="1874880" y="1533600"/>
            <a:chExt cx="2754360" cy="2236680"/>
          </a:xfrm>
        </p:grpSpPr>
        <p:sp>
          <p:nvSpPr>
            <p:cNvPr id="134" name=""/>
            <p:cNvSpPr/>
            <p:nvPr/>
          </p:nvSpPr>
          <p:spPr>
            <a:xfrm>
              <a:off x="1874880" y="1533600"/>
              <a:ext cx="2754360" cy="2236680"/>
            </a:xfrm>
            <a:custGeom>
              <a:avLst/>
              <a:gdLst/>
              <a:ahLst/>
              <a:rect l="l" t="t" r="r" b="b"/>
              <a:pathLst>
                <a:path w="1735" h="1409">
                  <a:moveTo>
                    <a:pt x="1735" y="351"/>
                  </a:moveTo>
                  <a:lnTo>
                    <a:pt x="1735" y="0"/>
                  </a:lnTo>
                  <a:lnTo>
                    <a:pt x="0" y="0"/>
                  </a:lnTo>
                  <a:lnTo>
                    <a:pt x="2" y="1409"/>
                  </a:lnTo>
                  <a:lnTo>
                    <a:pt x="156" y="1409"/>
                  </a:lnTo>
                  <a:lnTo>
                    <a:pt x="164" y="1382"/>
                  </a:lnTo>
                  <a:lnTo>
                    <a:pt x="164" y="1362"/>
                  </a:lnTo>
                  <a:lnTo>
                    <a:pt x="159" y="1335"/>
                  </a:lnTo>
                  <a:lnTo>
                    <a:pt x="150" y="1307"/>
                  </a:lnTo>
                  <a:lnTo>
                    <a:pt x="141" y="1272"/>
                  </a:lnTo>
                  <a:lnTo>
                    <a:pt x="137" y="1245"/>
                  </a:lnTo>
                  <a:lnTo>
                    <a:pt x="135" y="1221"/>
                  </a:lnTo>
                  <a:lnTo>
                    <a:pt x="140" y="1194"/>
                  </a:lnTo>
                  <a:lnTo>
                    <a:pt x="147" y="1169"/>
                  </a:lnTo>
                  <a:lnTo>
                    <a:pt x="164" y="1144"/>
                  </a:lnTo>
                  <a:lnTo>
                    <a:pt x="183" y="1124"/>
                  </a:lnTo>
                  <a:lnTo>
                    <a:pt x="204" y="1105"/>
                  </a:lnTo>
                  <a:lnTo>
                    <a:pt x="228" y="1091"/>
                  </a:lnTo>
                  <a:lnTo>
                    <a:pt x="257" y="1079"/>
                  </a:lnTo>
                  <a:lnTo>
                    <a:pt x="282" y="1075"/>
                  </a:lnTo>
                  <a:lnTo>
                    <a:pt x="318" y="1073"/>
                  </a:lnTo>
                  <a:lnTo>
                    <a:pt x="360" y="1076"/>
                  </a:lnTo>
                  <a:lnTo>
                    <a:pt x="387" y="1079"/>
                  </a:lnTo>
                  <a:lnTo>
                    <a:pt x="411" y="1087"/>
                  </a:lnTo>
                  <a:lnTo>
                    <a:pt x="433" y="1100"/>
                  </a:lnTo>
                  <a:lnTo>
                    <a:pt x="462" y="1123"/>
                  </a:lnTo>
                  <a:lnTo>
                    <a:pt x="480" y="1144"/>
                  </a:lnTo>
                  <a:lnTo>
                    <a:pt x="496" y="1166"/>
                  </a:lnTo>
                  <a:lnTo>
                    <a:pt x="505" y="1190"/>
                  </a:lnTo>
                  <a:lnTo>
                    <a:pt x="511" y="1212"/>
                  </a:lnTo>
                  <a:lnTo>
                    <a:pt x="511" y="1238"/>
                  </a:lnTo>
                  <a:lnTo>
                    <a:pt x="508" y="1263"/>
                  </a:lnTo>
                  <a:lnTo>
                    <a:pt x="502" y="1287"/>
                  </a:lnTo>
                  <a:lnTo>
                    <a:pt x="496" y="1310"/>
                  </a:lnTo>
                  <a:lnTo>
                    <a:pt x="489" y="1334"/>
                  </a:lnTo>
                  <a:lnTo>
                    <a:pt x="484" y="1358"/>
                  </a:lnTo>
                  <a:lnTo>
                    <a:pt x="484" y="1379"/>
                  </a:lnTo>
                  <a:lnTo>
                    <a:pt x="490" y="1403"/>
                  </a:lnTo>
                  <a:lnTo>
                    <a:pt x="781" y="1403"/>
                  </a:lnTo>
                  <a:lnTo>
                    <a:pt x="778" y="1353"/>
                  </a:lnTo>
                  <a:lnTo>
                    <a:pt x="781" y="1317"/>
                  </a:lnTo>
                  <a:lnTo>
                    <a:pt x="781" y="1290"/>
                  </a:lnTo>
                  <a:lnTo>
                    <a:pt x="782" y="1265"/>
                  </a:lnTo>
                  <a:lnTo>
                    <a:pt x="785" y="1238"/>
                  </a:lnTo>
                  <a:lnTo>
                    <a:pt x="791" y="1211"/>
                  </a:lnTo>
                  <a:lnTo>
                    <a:pt x="799" y="1193"/>
                  </a:lnTo>
                  <a:lnTo>
                    <a:pt x="809" y="1177"/>
                  </a:lnTo>
                  <a:lnTo>
                    <a:pt x="824" y="1163"/>
                  </a:lnTo>
                  <a:lnTo>
                    <a:pt x="841" y="1153"/>
                  </a:lnTo>
                  <a:lnTo>
                    <a:pt x="860" y="1147"/>
                  </a:lnTo>
                  <a:lnTo>
                    <a:pt x="881" y="1144"/>
                  </a:lnTo>
                  <a:lnTo>
                    <a:pt x="901" y="1142"/>
                  </a:lnTo>
                  <a:lnTo>
                    <a:pt x="926" y="1142"/>
                  </a:lnTo>
                  <a:lnTo>
                    <a:pt x="950" y="1144"/>
                  </a:lnTo>
                  <a:lnTo>
                    <a:pt x="970" y="1147"/>
                  </a:lnTo>
                  <a:lnTo>
                    <a:pt x="995" y="1148"/>
                  </a:lnTo>
                  <a:lnTo>
                    <a:pt x="1022" y="1151"/>
                  </a:lnTo>
                  <a:lnTo>
                    <a:pt x="1052" y="1151"/>
                  </a:lnTo>
                  <a:lnTo>
                    <a:pt x="1078" y="1148"/>
                  </a:lnTo>
                  <a:lnTo>
                    <a:pt x="1103" y="1144"/>
                  </a:lnTo>
                  <a:lnTo>
                    <a:pt x="1130" y="1138"/>
                  </a:lnTo>
                  <a:lnTo>
                    <a:pt x="1150" y="1127"/>
                  </a:lnTo>
                  <a:lnTo>
                    <a:pt x="1170" y="1114"/>
                  </a:lnTo>
                  <a:lnTo>
                    <a:pt x="1184" y="1096"/>
                  </a:lnTo>
                  <a:lnTo>
                    <a:pt x="1197" y="1076"/>
                  </a:lnTo>
                  <a:lnTo>
                    <a:pt x="1203" y="1057"/>
                  </a:lnTo>
                  <a:lnTo>
                    <a:pt x="1206" y="1034"/>
                  </a:lnTo>
                  <a:lnTo>
                    <a:pt x="1203" y="1012"/>
                  </a:lnTo>
                  <a:lnTo>
                    <a:pt x="1202" y="988"/>
                  </a:lnTo>
                  <a:lnTo>
                    <a:pt x="1203" y="962"/>
                  </a:lnTo>
                  <a:lnTo>
                    <a:pt x="1208" y="943"/>
                  </a:lnTo>
                  <a:lnTo>
                    <a:pt x="1214" y="922"/>
                  </a:lnTo>
                  <a:lnTo>
                    <a:pt x="1223" y="902"/>
                  </a:lnTo>
                  <a:lnTo>
                    <a:pt x="1235" y="889"/>
                  </a:lnTo>
                  <a:lnTo>
                    <a:pt x="1254" y="875"/>
                  </a:lnTo>
                  <a:lnTo>
                    <a:pt x="1278" y="866"/>
                  </a:lnTo>
                  <a:lnTo>
                    <a:pt x="1302" y="859"/>
                  </a:lnTo>
                  <a:lnTo>
                    <a:pt x="1325" y="853"/>
                  </a:lnTo>
                  <a:lnTo>
                    <a:pt x="1349" y="847"/>
                  </a:lnTo>
                  <a:lnTo>
                    <a:pt x="1380" y="841"/>
                  </a:lnTo>
                  <a:lnTo>
                    <a:pt x="1404" y="836"/>
                  </a:lnTo>
                  <a:lnTo>
                    <a:pt x="1430" y="829"/>
                  </a:lnTo>
                  <a:lnTo>
                    <a:pt x="1451" y="821"/>
                  </a:lnTo>
                  <a:lnTo>
                    <a:pt x="1472" y="812"/>
                  </a:lnTo>
                  <a:lnTo>
                    <a:pt x="1488" y="800"/>
                  </a:lnTo>
                  <a:lnTo>
                    <a:pt x="1503" y="788"/>
                  </a:lnTo>
                  <a:lnTo>
                    <a:pt x="1520" y="769"/>
                  </a:lnTo>
                  <a:lnTo>
                    <a:pt x="1530" y="751"/>
                  </a:lnTo>
                  <a:lnTo>
                    <a:pt x="1539" y="730"/>
                  </a:lnTo>
                  <a:lnTo>
                    <a:pt x="1544" y="703"/>
                  </a:lnTo>
                  <a:lnTo>
                    <a:pt x="1541" y="681"/>
                  </a:lnTo>
                  <a:lnTo>
                    <a:pt x="1538" y="657"/>
                  </a:lnTo>
                  <a:lnTo>
                    <a:pt x="1530" y="628"/>
                  </a:lnTo>
                  <a:lnTo>
                    <a:pt x="1523" y="597"/>
                  </a:lnTo>
                  <a:lnTo>
                    <a:pt x="1515" y="568"/>
                  </a:lnTo>
                  <a:lnTo>
                    <a:pt x="1514" y="546"/>
                  </a:lnTo>
                  <a:lnTo>
                    <a:pt x="1514" y="525"/>
                  </a:lnTo>
                  <a:lnTo>
                    <a:pt x="1517" y="496"/>
                  </a:lnTo>
                  <a:lnTo>
                    <a:pt x="1524" y="472"/>
                  </a:lnTo>
                  <a:lnTo>
                    <a:pt x="1532" y="454"/>
                  </a:lnTo>
                  <a:lnTo>
                    <a:pt x="1542" y="436"/>
                  </a:lnTo>
                  <a:lnTo>
                    <a:pt x="1557" y="417"/>
                  </a:lnTo>
                  <a:lnTo>
                    <a:pt x="1573" y="397"/>
                  </a:lnTo>
                  <a:lnTo>
                    <a:pt x="1594" y="381"/>
                  </a:lnTo>
                  <a:lnTo>
                    <a:pt x="1617" y="368"/>
                  </a:lnTo>
                  <a:lnTo>
                    <a:pt x="1638" y="360"/>
                  </a:lnTo>
                  <a:lnTo>
                    <a:pt x="1659" y="354"/>
                  </a:lnTo>
                  <a:lnTo>
                    <a:pt x="1681" y="351"/>
                  </a:lnTo>
                  <a:lnTo>
                    <a:pt x="1708" y="351"/>
                  </a:lnTo>
                  <a:lnTo>
                    <a:pt x="1735" y="351"/>
                  </a:lnTo>
                  <a:close/>
                </a:path>
              </a:pathLst>
            </a:custGeom>
            <a:solidFill>
              <a:srgbClr val="008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917000" y="1663560"/>
              <a:ext cx="2010960" cy="11300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11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EXPRES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" name=""/>
          <p:cNvSpPr/>
          <p:nvPr/>
        </p:nvSpPr>
        <p:spPr>
          <a:xfrm>
            <a:off x="3048120" y="2903400"/>
            <a:ext cx="3124080" cy="1105200"/>
          </a:xfrm>
          <a:custGeom>
            <a:avLst/>
            <a:gdLst>
              <a:gd name="textAreaLeft" fmla="*/ 488160 w 3124080"/>
              <a:gd name="textAreaRight" fmla="*/ 2733840 w 3124080"/>
              <a:gd name="textAreaTop" fmla="*/ 276120 h 1105200"/>
              <a:gd name="textAreaBottom" fmla="*/ 829080 h 1105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ff"/>
          </a:solidFill>
          <a:ln w="38160">
            <a:solidFill>
              <a:srgbClr val="18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72520" y="2951280"/>
            <a:ext cx="1296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imes New Roman"/>
              </a:rPr>
              <a:t>LPM/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imes New Roman"/>
              </a:rPr>
              <a:t>EXPR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imes New Roman"/>
              </a:rPr>
              <a:t>Sche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432920" y="2951280"/>
            <a:ext cx="1589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imes New Roman"/>
              </a:rPr>
              <a:t>Popul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imes New Roman"/>
              </a:rPr>
              <a:t>CI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imes New Roman"/>
              </a:rPr>
              <a:t>exchange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pping of EXPRESS construc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TEP Part 21 defines mappings into the exchange structure for the following EXPRESS constructs: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TIT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IMPLE Data typ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GGREGATION Data typ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UMERATION Data typ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ELECT Data typ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UPERTYPE-SUBTYP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Unmapped Construction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following EXPRESS constructs do 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not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 map into the exchange structure: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WHERE Rul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NVERSE Attribut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CHEMA Decla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ONSTA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RUL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Remark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pping Entities &amp; Entity Types 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ach entity instance shall be represented at most once in the data section;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istinct entity instances shall have distinct entity instance names (i.e. the #number).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entity instances need not be ordered in the exchange structure.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n entity instance may be referenced before its name occurs as an identifier in the exchange structure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n entity data type is mapped by placing the #number in the place of the attribute valu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#123 = ENTITY_NAME (</a:t>
            </a:r>
            <a:r>
              <a:rPr b="1" i="1" lang="en-GB" sz="2800" spc="-1" strike="noStrike">
                <a:solidFill>
                  <a:srgbClr val="ffff00"/>
                </a:solidFill>
                <a:latin typeface="Arial"/>
              </a:rPr>
              <a:t>values of attributes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);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pping Entities: Exampl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xample entity definition in EXPRES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TITY widget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widget_material :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material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TITY material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name :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STRING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ample entity instance in data sectio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#1 = WIDGET (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#3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#3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= MATERIAL (‘steel’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pping Simple data 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Optional valu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Where an Optional attribute has not been given a value, it shall be encoded as a dollar sign "$"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Boolea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The EXPRESS element of BOOLEAN shall be treated as a pre-defined enumerated data type with a value encoded as "T" (for TRUE) and "F" (for FALSE)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Logica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The EXPRESS element of LOGICAL shall be treated as a pre-defined enumerated data type with a value encoded as "T" (for TRUE), "F" (for FALSE) and "U" (for UNKNOWN)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Mapping Simple data types: Example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xample entity definition in EXPRES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TITY widget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 :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OPTIONAL REAL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B :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BOOLEAN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 :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LOGICAL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ample entity instance in data sectio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#1 = WIDGET ($, .T., .F.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385960" y="2109960"/>
            <a:ext cx="916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idg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248520" y="30322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3" name=""/>
          <p:cNvCxnSpPr>
            <a:stCxn id="151" idx="2"/>
            <a:endCxn id="154" idx="2"/>
          </p:cNvCxnSpPr>
          <p:nvPr/>
        </p:nvCxnSpPr>
        <p:spPr>
          <a:xfrm flipH="1" rot="16200000">
            <a:off x="6315120" y="2079360"/>
            <a:ext cx="317880" cy="1257840"/>
          </a:xfrm>
          <a:prstGeom prst="bentConnector2">
            <a:avLst/>
          </a:prstGeom>
          <a:ln w="28440">
            <a:solidFill>
              <a:srgbClr val="ffffff"/>
            </a:solidFill>
            <a:miter/>
          </a:ln>
        </p:spPr>
      </p:cxnSp>
      <p:sp>
        <p:nvSpPr>
          <p:cNvPr id="155" name=""/>
          <p:cNvSpPr/>
          <p:nvPr/>
        </p:nvSpPr>
        <p:spPr>
          <a:xfrm>
            <a:off x="6537600" y="24969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837480" y="19652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7" name=""/>
          <p:cNvCxnSpPr>
            <a:stCxn id="151" idx="1"/>
          </p:cNvCxnSpPr>
          <p:nvPr/>
        </p:nvCxnSpPr>
        <p:spPr>
          <a:xfrm flipH="1" flipV="1" rot="10800000">
            <a:off x="5355000" y="2322000"/>
            <a:ext cx="3351960" cy="1098000"/>
          </a:xfrm>
          <a:prstGeom prst="bentConnector3">
            <a:avLst>
              <a:gd name="adj1" fmla="val -6390"/>
            </a:avLst>
          </a:prstGeom>
          <a:ln w="28440">
            <a:solidFill>
              <a:srgbClr val="ffffff"/>
            </a:solidFill>
            <a:miter/>
          </a:ln>
        </p:spPr>
      </p:cxnSp>
      <p:sp>
        <p:nvSpPr>
          <p:cNvPr id="158" name=""/>
          <p:cNvSpPr/>
          <p:nvPr/>
        </p:nvSpPr>
        <p:spPr>
          <a:xfrm>
            <a:off x="4095720" y="2362320"/>
            <a:ext cx="273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1" idx="3"/>
            <a:endCxn id="160" idx="2"/>
          </p:cNvCxnSpPr>
          <p:nvPr/>
        </p:nvCxnSpPr>
        <p:spPr>
          <a:xfrm>
            <a:off x="6332040" y="2322000"/>
            <a:ext cx="1350360" cy="11880"/>
          </a:xfrm>
          <a:prstGeom prst="bentConnector3">
            <a:avLst>
              <a:gd name="adj1" fmla="val 50000"/>
            </a:avLst>
          </a:prstGeom>
          <a:ln w="28440">
            <a:solidFill>
              <a:srgbClr val="ffffff"/>
            </a:solidFill>
            <a:prstDash val="dash"/>
            <a:miter/>
          </a:ln>
        </p:spPr>
      </p:cxnSp>
      <p:sp>
        <p:nvSpPr>
          <p:cNvPr id="161" name=""/>
          <p:cNvSpPr/>
          <p:nvPr/>
        </p:nvSpPr>
        <p:spPr>
          <a:xfrm>
            <a:off x="5950080" y="2362320"/>
            <a:ext cx="27288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277040" y="2641680"/>
            <a:ext cx="152568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OOLE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8669160" y="2641320"/>
            <a:ext cx="0" cy="376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116840" y="279072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097760" y="33433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7696080" y="2141280"/>
            <a:ext cx="1123920" cy="376200"/>
            <a:chOff x="7696080" y="2141280"/>
            <a:chExt cx="1123920" cy="376200"/>
          </a:xfrm>
        </p:grpSpPr>
        <p:sp>
          <p:nvSpPr>
            <p:cNvPr id="160" name=""/>
            <p:cNvSpPr/>
            <p:nvPr/>
          </p:nvSpPr>
          <p:spPr>
            <a:xfrm>
              <a:off x="7696080" y="225756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875360" y="2141640"/>
              <a:ext cx="94464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>
              <a:off x="8692920" y="2141280"/>
              <a:ext cx="0" cy="376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7277040" y="3205080"/>
            <a:ext cx="152568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OGI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8669160" y="3204720"/>
            <a:ext cx="0" cy="376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pping Aggregation data 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ggregation data typ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spcAft>
                <a:spcPts val="1100"/>
              </a:spcAft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e EXPRESS elements of LIST, BAG, SET or an ARRAY shall be mapped to the exchange structure as a list data type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spcAft>
                <a:spcPts val="1100"/>
              </a:spcAft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f an entire list is optional and does not exist, the list shall be encoded by a dollar sign “$”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spcAft>
                <a:spcPts val="1100"/>
              </a:spcAft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f the list is empty, the list shall be encoded as a left parenthesis “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(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” followed by a right parenthesis “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)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”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Mapping Aggregation types: Example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xample entity definition in EXPRES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TITY widget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ttribute1: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LIST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[0:6] OF INTEGER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ttribute2: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SET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[1:?] OF INTEGER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ttribute3: OPTIONAL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ARRAY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[1:3] OF INTEGER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ample entity instance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in data section: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#4 = WIDGET((), (1,2,4), $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598280" y="3998880"/>
            <a:ext cx="916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idg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161320" y="4921200"/>
            <a:ext cx="179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ttribute3 A[1:3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6" name=""/>
          <p:cNvCxnSpPr>
            <a:stCxn id="174" idx="2"/>
            <a:endCxn id="177" idx="2"/>
          </p:cNvCxnSpPr>
          <p:nvPr/>
        </p:nvCxnSpPr>
        <p:spPr>
          <a:xfrm flipH="1" rot="16200000">
            <a:off x="5951520" y="3544560"/>
            <a:ext cx="335520" cy="2123280"/>
          </a:xfrm>
          <a:prstGeom prst="bentConnector2">
            <a:avLst/>
          </a:prstGeom>
          <a:ln w="28440">
            <a:solidFill>
              <a:srgbClr val="ffffff"/>
            </a:solidFill>
            <a:miter/>
          </a:ln>
        </p:spPr>
      </p:cxnSp>
      <p:sp>
        <p:nvSpPr>
          <p:cNvPr id="178" name=""/>
          <p:cNvSpPr/>
          <p:nvPr/>
        </p:nvSpPr>
        <p:spPr>
          <a:xfrm>
            <a:off x="5399280" y="4421160"/>
            <a:ext cx="179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ttribute2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522040" y="3855960"/>
            <a:ext cx="17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ttribute1 L[0:6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4" idx="1"/>
          </p:cNvCxnSpPr>
          <p:nvPr/>
        </p:nvCxnSpPr>
        <p:spPr>
          <a:xfrm flipH="1" flipV="1" rot="10800000">
            <a:off x="4567680" y="4210560"/>
            <a:ext cx="3351960" cy="1097640"/>
          </a:xfrm>
          <a:prstGeom prst="bentConnector3">
            <a:avLst>
              <a:gd name="adj1" fmla="val -6390"/>
            </a:avLst>
          </a:prstGeom>
          <a:ln w="28440">
            <a:solidFill>
              <a:srgbClr val="ffffff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2"/>
          </p:cNvCxnSpPr>
          <p:nvPr/>
        </p:nvCxnSpPr>
        <p:spPr>
          <a:xfrm>
            <a:off x="5544720" y="4211280"/>
            <a:ext cx="1632600" cy="11880"/>
          </a:xfrm>
          <a:prstGeom prst="bentConnector3">
            <a:avLst>
              <a:gd name="adj1" fmla="val 50000"/>
            </a:avLst>
          </a:prstGeom>
          <a:ln w="28440">
            <a:solidFill>
              <a:srgbClr val="ffffff"/>
            </a:solidFill>
            <a:prstDash val="dash"/>
            <a:miter/>
          </a:ln>
        </p:spPr>
      </p:cxnSp>
      <p:sp>
        <p:nvSpPr>
          <p:cNvPr id="183" name=""/>
          <p:cNvSpPr/>
          <p:nvPr/>
        </p:nvSpPr>
        <p:spPr>
          <a:xfrm>
            <a:off x="5549760" y="4268880"/>
            <a:ext cx="273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388280" y="4565520"/>
            <a:ext cx="152568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TEG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8747280" y="4565160"/>
            <a:ext cx="0" cy="376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194600" y="469728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209000" y="524988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7191360" y="4029120"/>
            <a:ext cx="1722240" cy="377640"/>
            <a:chOff x="7191360" y="4029120"/>
            <a:chExt cx="1722240" cy="377640"/>
          </a:xfrm>
        </p:grpSpPr>
        <p:sp>
          <p:nvSpPr>
            <p:cNvPr id="182" name=""/>
            <p:cNvSpPr/>
            <p:nvPr/>
          </p:nvSpPr>
          <p:spPr>
            <a:xfrm>
              <a:off x="7191360" y="414684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402320" y="4029120"/>
              <a:ext cx="151128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INTEG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8751960" y="4030560"/>
              <a:ext cx="0" cy="376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7389720" y="5111640"/>
            <a:ext cx="152568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TEG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8745480" y="5111280"/>
            <a:ext cx="0" cy="376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479760" y="3395520"/>
            <a:ext cx="233856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3090960" y="2085840"/>
            <a:ext cx="3054240" cy="3346560"/>
            <a:chOff x="3090960" y="2085840"/>
            <a:chExt cx="3054240" cy="3346560"/>
          </a:xfrm>
        </p:grpSpPr>
        <p:sp>
          <p:nvSpPr>
            <p:cNvPr id="91" name=""/>
            <p:cNvSpPr/>
            <p:nvPr/>
          </p:nvSpPr>
          <p:spPr>
            <a:xfrm>
              <a:off x="3090960" y="2085840"/>
              <a:ext cx="3054240" cy="3346560"/>
            </a:xfrm>
            <a:custGeom>
              <a:avLst/>
              <a:gdLst/>
              <a:ahLst/>
              <a:rect l="l" t="t" r="r" b="b"/>
              <a:pathLst>
                <a:path w="1924" h="2108">
                  <a:moveTo>
                    <a:pt x="733" y="440"/>
                  </a:moveTo>
                  <a:lnTo>
                    <a:pt x="752" y="417"/>
                  </a:lnTo>
                  <a:lnTo>
                    <a:pt x="766" y="394"/>
                  </a:lnTo>
                  <a:lnTo>
                    <a:pt x="773" y="369"/>
                  </a:lnTo>
                  <a:lnTo>
                    <a:pt x="773" y="336"/>
                  </a:lnTo>
                  <a:lnTo>
                    <a:pt x="764" y="298"/>
                  </a:lnTo>
                  <a:lnTo>
                    <a:pt x="757" y="267"/>
                  </a:lnTo>
                  <a:lnTo>
                    <a:pt x="746" y="228"/>
                  </a:lnTo>
                  <a:lnTo>
                    <a:pt x="742" y="186"/>
                  </a:lnTo>
                  <a:lnTo>
                    <a:pt x="746" y="160"/>
                  </a:lnTo>
                  <a:lnTo>
                    <a:pt x="754" y="129"/>
                  </a:lnTo>
                  <a:lnTo>
                    <a:pt x="769" y="96"/>
                  </a:lnTo>
                  <a:lnTo>
                    <a:pt x="789" y="64"/>
                  </a:lnTo>
                  <a:lnTo>
                    <a:pt x="816" y="39"/>
                  </a:lnTo>
                  <a:lnTo>
                    <a:pt x="840" y="20"/>
                  </a:lnTo>
                  <a:lnTo>
                    <a:pt x="873" y="8"/>
                  </a:lnTo>
                  <a:lnTo>
                    <a:pt x="912" y="2"/>
                  </a:lnTo>
                  <a:lnTo>
                    <a:pt x="954" y="0"/>
                  </a:lnTo>
                  <a:lnTo>
                    <a:pt x="1011" y="0"/>
                  </a:lnTo>
                  <a:lnTo>
                    <a:pt x="1056" y="5"/>
                  </a:lnTo>
                  <a:lnTo>
                    <a:pt x="1082" y="14"/>
                  </a:lnTo>
                  <a:lnTo>
                    <a:pt x="1101" y="26"/>
                  </a:lnTo>
                  <a:lnTo>
                    <a:pt x="1122" y="39"/>
                  </a:lnTo>
                  <a:lnTo>
                    <a:pt x="1143" y="60"/>
                  </a:lnTo>
                  <a:lnTo>
                    <a:pt x="1163" y="87"/>
                  </a:lnTo>
                  <a:lnTo>
                    <a:pt x="1177" y="111"/>
                  </a:lnTo>
                  <a:lnTo>
                    <a:pt x="1185" y="132"/>
                  </a:lnTo>
                  <a:lnTo>
                    <a:pt x="1191" y="168"/>
                  </a:lnTo>
                  <a:lnTo>
                    <a:pt x="1191" y="199"/>
                  </a:lnTo>
                  <a:lnTo>
                    <a:pt x="1186" y="231"/>
                  </a:lnTo>
                  <a:lnTo>
                    <a:pt x="1180" y="255"/>
                  </a:lnTo>
                  <a:lnTo>
                    <a:pt x="1173" y="294"/>
                  </a:lnTo>
                  <a:lnTo>
                    <a:pt x="1163" y="334"/>
                  </a:lnTo>
                  <a:lnTo>
                    <a:pt x="1158" y="360"/>
                  </a:lnTo>
                  <a:lnTo>
                    <a:pt x="1166" y="385"/>
                  </a:lnTo>
                  <a:lnTo>
                    <a:pt x="1174" y="403"/>
                  </a:lnTo>
                  <a:lnTo>
                    <a:pt x="1191" y="427"/>
                  </a:lnTo>
                  <a:lnTo>
                    <a:pt x="1215" y="446"/>
                  </a:lnTo>
                  <a:lnTo>
                    <a:pt x="1237" y="463"/>
                  </a:lnTo>
                  <a:lnTo>
                    <a:pt x="1270" y="476"/>
                  </a:lnTo>
                  <a:lnTo>
                    <a:pt x="1303" y="485"/>
                  </a:lnTo>
                  <a:lnTo>
                    <a:pt x="1335" y="493"/>
                  </a:lnTo>
                  <a:lnTo>
                    <a:pt x="1368" y="497"/>
                  </a:lnTo>
                  <a:lnTo>
                    <a:pt x="1402" y="506"/>
                  </a:lnTo>
                  <a:lnTo>
                    <a:pt x="1429" y="515"/>
                  </a:lnTo>
                  <a:lnTo>
                    <a:pt x="1450" y="526"/>
                  </a:lnTo>
                  <a:lnTo>
                    <a:pt x="1467" y="538"/>
                  </a:lnTo>
                  <a:lnTo>
                    <a:pt x="1479" y="551"/>
                  </a:lnTo>
                  <a:lnTo>
                    <a:pt x="1488" y="568"/>
                  </a:lnTo>
                  <a:lnTo>
                    <a:pt x="1495" y="587"/>
                  </a:lnTo>
                  <a:lnTo>
                    <a:pt x="1498" y="605"/>
                  </a:lnTo>
                  <a:lnTo>
                    <a:pt x="1501" y="622"/>
                  </a:lnTo>
                  <a:lnTo>
                    <a:pt x="1501" y="644"/>
                  </a:lnTo>
                  <a:lnTo>
                    <a:pt x="1498" y="670"/>
                  </a:lnTo>
                  <a:lnTo>
                    <a:pt x="1498" y="689"/>
                  </a:lnTo>
                  <a:lnTo>
                    <a:pt x="1503" y="713"/>
                  </a:lnTo>
                  <a:lnTo>
                    <a:pt x="1513" y="734"/>
                  </a:lnTo>
                  <a:lnTo>
                    <a:pt x="1525" y="752"/>
                  </a:lnTo>
                  <a:lnTo>
                    <a:pt x="1540" y="766"/>
                  </a:lnTo>
                  <a:lnTo>
                    <a:pt x="1559" y="781"/>
                  </a:lnTo>
                  <a:lnTo>
                    <a:pt x="1579" y="790"/>
                  </a:lnTo>
                  <a:lnTo>
                    <a:pt x="1609" y="796"/>
                  </a:lnTo>
                  <a:lnTo>
                    <a:pt x="1634" y="799"/>
                  </a:lnTo>
                  <a:lnTo>
                    <a:pt x="1658" y="800"/>
                  </a:lnTo>
                  <a:lnTo>
                    <a:pt x="1685" y="799"/>
                  </a:lnTo>
                  <a:lnTo>
                    <a:pt x="1718" y="796"/>
                  </a:lnTo>
                  <a:lnTo>
                    <a:pt x="1744" y="794"/>
                  </a:lnTo>
                  <a:lnTo>
                    <a:pt x="1769" y="791"/>
                  </a:lnTo>
                  <a:lnTo>
                    <a:pt x="1793" y="790"/>
                  </a:lnTo>
                  <a:lnTo>
                    <a:pt x="1822" y="791"/>
                  </a:lnTo>
                  <a:lnTo>
                    <a:pt x="1837" y="794"/>
                  </a:lnTo>
                  <a:lnTo>
                    <a:pt x="1855" y="799"/>
                  </a:lnTo>
                  <a:lnTo>
                    <a:pt x="1871" y="808"/>
                  </a:lnTo>
                  <a:lnTo>
                    <a:pt x="1889" y="821"/>
                  </a:lnTo>
                  <a:lnTo>
                    <a:pt x="1903" y="836"/>
                  </a:lnTo>
                  <a:lnTo>
                    <a:pt x="1913" y="858"/>
                  </a:lnTo>
                  <a:lnTo>
                    <a:pt x="1918" y="878"/>
                  </a:lnTo>
                  <a:lnTo>
                    <a:pt x="1921" y="902"/>
                  </a:lnTo>
                  <a:lnTo>
                    <a:pt x="1924" y="945"/>
                  </a:lnTo>
                  <a:lnTo>
                    <a:pt x="1922" y="996"/>
                  </a:lnTo>
                  <a:lnTo>
                    <a:pt x="1924" y="1050"/>
                  </a:lnTo>
                  <a:lnTo>
                    <a:pt x="1919" y="1113"/>
                  </a:lnTo>
                  <a:lnTo>
                    <a:pt x="1915" y="1157"/>
                  </a:lnTo>
                  <a:lnTo>
                    <a:pt x="1910" y="1191"/>
                  </a:lnTo>
                  <a:lnTo>
                    <a:pt x="1903" y="1211"/>
                  </a:lnTo>
                  <a:lnTo>
                    <a:pt x="1891" y="1229"/>
                  </a:lnTo>
                  <a:lnTo>
                    <a:pt x="1877" y="1240"/>
                  </a:lnTo>
                  <a:lnTo>
                    <a:pt x="1859" y="1251"/>
                  </a:lnTo>
                  <a:lnTo>
                    <a:pt x="1838" y="1257"/>
                  </a:lnTo>
                  <a:lnTo>
                    <a:pt x="1820" y="1261"/>
                  </a:lnTo>
                  <a:lnTo>
                    <a:pt x="1783" y="1263"/>
                  </a:lnTo>
                  <a:lnTo>
                    <a:pt x="1750" y="1261"/>
                  </a:lnTo>
                  <a:lnTo>
                    <a:pt x="1723" y="1257"/>
                  </a:lnTo>
                  <a:lnTo>
                    <a:pt x="1699" y="1255"/>
                  </a:lnTo>
                  <a:lnTo>
                    <a:pt x="1672" y="1254"/>
                  </a:lnTo>
                  <a:lnTo>
                    <a:pt x="1648" y="1254"/>
                  </a:lnTo>
                  <a:lnTo>
                    <a:pt x="1627" y="1255"/>
                  </a:lnTo>
                  <a:lnTo>
                    <a:pt x="1604" y="1257"/>
                  </a:lnTo>
                  <a:lnTo>
                    <a:pt x="1577" y="1264"/>
                  </a:lnTo>
                  <a:lnTo>
                    <a:pt x="1562" y="1270"/>
                  </a:lnTo>
                  <a:lnTo>
                    <a:pt x="1549" y="1276"/>
                  </a:lnTo>
                  <a:lnTo>
                    <a:pt x="1531" y="1288"/>
                  </a:lnTo>
                  <a:lnTo>
                    <a:pt x="1519" y="1303"/>
                  </a:lnTo>
                  <a:lnTo>
                    <a:pt x="1510" y="1317"/>
                  </a:lnTo>
                  <a:lnTo>
                    <a:pt x="1501" y="1333"/>
                  </a:lnTo>
                  <a:lnTo>
                    <a:pt x="1497" y="1350"/>
                  </a:lnTo>
                  <a:lnTo>
                    <a:pt x="1495" y="1368"/>
                  </a:lnTo>
                  <a:lnTo>
                    <a:pt x="1497" y="1387"/>
                  </a:lnTo>
                  <a:lnTo>
                    <a:pt x="1497" y="1420"/>
                  </a:lnTo>
                  <a:lnTo>
                    <a:pt x="1495" y="1455"/>
                  </a:lnTo>
                  <a:lnTo>
                    <a:pt x="1486" y="1480"/>
                  </a:lnTo>
                  <a:lnTo>
                    <a:pt x="1477" y="1501"/>
                  </a:lnTo>
                  <a:lnTo>
                    <a:pt x="1464" y="1516"/>
                  </a:lnTo>
                  <a:lnTo>
                    <a:pt x="1444" y="1528"/>
                  </a:lnTo>
                  <a:lnTo>
                    <a:pt x="1425" y="1539"/>
                  </a:lnTo>
                  <a:lnTo>
                    <a:pt x="1402" y="1545"/>
                  </a:lnTo>
                  <a:lnTo>
                    <a:pt x="1374" y="1551"/>
                  </a:lnTo>
                  <a:lnTo>
                    <a:pt x="1350" y="1558"/>
                  </a:lnTo>
                  <a:lnTo>
                    <a:pt x="1321" y="1563"/>
                  </a:lnTo>
                  <a:lnTo>
                    <a:pt x="1297" y="1567"/>
                  </a:lnTo>
                  <a:lnTo>
                    <a:pt x="1270" y="1573"/>
                  </a:lnTo>
                  <a:lnTo>
                    <a:pt x="1249" y="1584"/>
                  </a:lnTo>
                  <a:lnTo>
                    <a:pt x="1225" y="1594"/>
                  </a:lnTo>
                  <a:lnTo>
                    <a:pt x="1203" y="1608"/>
                  </a:lnTo>
                  <a:lnTo>
                    <a:pt x="1186" y="1626"/>
                  </a:lnTo>
                  <a:lnTo>
                    <a:pt x="1171" y="1646"/>
                  </a:lnTo>
                  <a:lnTo>
                    <a:pt x="1160" y="1672"/>
                  </a:lnTo>
                  <a:lnTo>
                    <a:pt x="1157" y="1694"/>
                  </a:lnTo>
                  <a:lnTo>
                    <a:pt x="1158" y="1720"/>
                  </a:lnTo>
                  <a:lnTo>
                    <a:pt x="1163" y="1744"/>
                  </a:lnTo>
                  <a:lnTo>
                    <a:pt x="1170" y="1769"/>
                  </a:lnTo>
                  <a:lnTo>
                    <a:pt x="1176" y="1798"/>
                  </a:lnTo>
                  <a:lnTo>
                    <a:pt x="1180" y="1823"/>
                  </a:lnTo>
                  <a:lnTo>
                    <a:pt x="1186" y="1856"/>
                  </a:lnTo>
                  <a:lnTo>
                    <a:pt x="1186" y="1889"/>
                  </a:lnTo>
                  <a:lnTo>
                    <a:pt x="1179" y="1922"/>
                  </a:lnTo>
                  <a:lnTo>
                    <a:pt x="1171" y="1948"/>
                  </a:lnTo>
                  <a:lnTo>
                    <a:pt x="1163" y="1973"/>
                  </a:lnTo>
                  <a:lnTo>
                    <a:pt x="1151" y="1997"/>
                  </a:lnTo>
                  <a:lnTo>
                    <a:pt x="1134" y="2027"/>
                  </a:lnTo>
                  <a:lnTo>
                    <a:pt x="1116" y="2046"/>
                  </a:lnTo>
                  <a:lnTo>
                    <a:pt x="1101" y="2060"/>
                  </a:lnTo>
                  <a:lnTo>
                    <a:pt x="1082" y="2076"/>
                  </a:lnTo>
                  <a:lnTo>
                    <a:pt x="1061" y="2091"/>
                  </a:lnTo>
                  <a:lnTo>
                    <a:pt x="1041" y="2099"/>
                  </a:lnTo>
                  <a:lnTo>
                    <a:pt x="1023" y="2103"/>
                  </a:lnTo>
                  <a:lnTo>
                    <a:pt x="993" y="2106"/>
                  </a:lnTo>
                  <a:lnTo>
                    <a:pt x="959" y="2108"/>
                  </a:lnTo>
                  <a:lnTo>
                    <a:pt x="917" y="2106"/>
                  </a:lnTo>
                  <a:lnTo>
                    <a:pt x="897" y="2106"/>
                  </a:lnTo>
                  <a:lnTo>
                    <a:pt x="872" y="2102"/>
                  </a:lnTo>
                  <a:lnTo>
                    <a:pt x="845" y="2094"/>
                  </a:lnTo>
                  <a:lnTo>
                    <a:pt x="821" y="2081"/>
                  </a:lnTo>
                  <a:lnTo>
                    <a:pt x="806" y="2069"/>
                  </a:lnTo>
                  <a:lnTo>
                    <a:pt x="789" y="2052"/>
                  </a:lnTo>
                  <a:lnTo>
                    <a:pt x="776" y="2037"/>
                  </a:lnTo>
                  <a:lnTo>
                    <a:pt x="763" y="2018"/>
                  </a:lnTo>
                  <a:lnTo>
                    <a:pt x="752" y="1999"/>
                  </a:lnTo>
                  <a:lnTo>
                    <a:pt x="743" y="1975"/>
                  </a:lnTo>
                  <a:lnTo>
                    <a:pt x="739" y="1949"/>
                  </a:lnTo>
                  <a:lnTo>
                    <a:pt x="737" y="1930"/>
                  </a:lnTo>
                  <a:lnTo>
                    <a:pt x="737" y="1903"/>
                  </a:lnTo>
                  <a:lnTo>
                    <a:pt x="739" y="1880"/>
                  </a:lnTo>
                  <a:lnTo>
                    <a:pt x="746" y="1856"/>
                  </a:lnTo>
                  <a:lnTo>
                    <a:pt x="752" y="1828"/>
                  </a:lnTo>
                  <a:lnTo>
                    <a:pt x="760" y="1801"/>
                  </a:lnTo>
                  <a:lnTo>
                    <a:pt x="764" y="1777"/>
                  </a:lnTo>
                  <a:lnTo>
                    <a:pt x="766" y="1754"/>
                  </a:lnTo>
                  <a:lnTo>
                    <a:pt x="764" y="1736"/>
                  </a:lnTo>
                  <a:lnTo>
                    <a:pt x="760" y="1718"/>
                  </a:lnTo>
                  <a:lnTo>
                    <a:pt x="748" y="1696"/>
                  </a:lnTo>
                  <a:lnTo>
                    <a:pt x="736" y="1681"/>
                  </a:lnTo>
                  <a:lnTo>
                    <a:pt x="721" y="1664"/>
                  </a:lnTo>
                  <a:lnTo>
                    <a:pt x="704" y="1652"/>
                  </a:lnTo>
                  <a:lnTo>
                    <a:pt x="688" y="1640"/>
                  </a:lnTo>
                  <a:lnTo>
                    <a:pt x="664" y="1632"/>
                  </a:lnTo>
                  <a:lnTo>
                    <a:pt x="643" y="1626"/>
                  </a:lnTo>
                  <a:lnTo>
                    <a:pt x="616" y="1620"/>
                  </a:lnTo>
                  <a:lnTo>
                    <a:pt x="592" y="1617"/>
                  </a:lnTo>
                  <a:lnTo>
                    <a:pt x="569" y="1611"/>
                  </a:lnTo>
                  <a:lnTo>
                    <a:pt x="542" y="1605"/>
                  </a:lnTo>
                  <a:lnTo>
                    <a:pt x="520" y="1596"/>
                  </a:lnTo>
                  <a:lnTo>
                    <a:pt x="493" y="1588"/>
                  </a:lnTo>
                  <a:lnTo>
                    <a:pt x="472" y="1579"/>
                  </a:lnTo>
                  <a:lnTo>
                    <a:pt x="455" y="1566"/>
                  </a:lnTo>
                  <a:lnTo>
                    <a:pt x="442" y="1548"/>
                  </a:lnTo>
                  <a:lnTo>
                    <a:pt x="433" y="1525"/>
                  </a:lnTo>
                  <a:lnTo>
                    <a:pt x="425" y="1495"/>
                  </a:lnTo>
                  <a:lnTo>
                    <a:pt x="424" y="1471"/>
                  </a:lnTo>
                  <a:lnTo>
                    <a:pt x="425" y="1444"/>
                  </a:lnTo>
                  <a:lnTo>
                    <a:pt x="428" y="1423"/>
                  </a:lnTo>
                  <a:lnTo>
                    <a:pt x="425" y="1398"/>
                  </a:lnTo>
                  <a:lnTo>
                    <a:pt x="418" y="1378"/>
                  </a:lnTo>
                  <a:lnTo>
                    <a:pt x="404" y="1357"/>
                  </a:lnTo>
                  <a:lnTo>
                    <a:pt x="391" y="1344"/>
                  </a:lnTo>
                  <a:lnTo>
                    <a:pt x="375" y="1330"/>
                  </a:lnTo>
                  <a:lnTo>
                    <a:pt x="352" y="1321"/>
                  </a:lnTo>
                  <a:lnTo>
                    <a:pt x="327" y="1312"/>
                  </a:lnTo>
                  <a:lnTo>
                    <a:pt x="300" y="1309"/>
                  </a:lnTo>
                  <a:lnTo>
                    <a:pt x="277" y="1306"/>
                  </a:lnTo>
                  <a:lnTo>
                    <a:pt x="252" y="1306"/>
                  </a:lnTo>
                  <a:lnTo>
                    <a:pt x="229" y="1309"/>
                  </a:lnTo>
                  <a:lnTo>
                    <a:pt x="207" y="1311"/>
                  </a:lnTo>
                  <a:lnTo>
                    <a:pt x="184" y="1314"/>
                  </a:lnTo>
                  <a:lnTo>
                    <a:pt x="162" y="1317"/>
                  </a:lnTo>
                  <a:lnTo>
                    <a:pt x="124" y="1317"/>
                  </a:lnTo>
                  <a:lnTo>
                    <a:pt x="100" y="1315"/>
                  </a:lnTo>
                  <a:lnTo>
                    <a:pt x="75" y="1309"/>
                  </a:lnTo>
                  <a:lnTo>
                    <a:pt x="57" y="1300"/>
                  </a:lnTo>
                  <a:lnTo>
                    <a:pt x="37" y="1285"/>
                  </a:lnTo>
                  <a:lnTo>
                    <a:pt x="24" y="1269"/>
                  </a:lnTo>
                  <a:lnTo>
                    <a:pt x="15" y="1251"/>
                  </a:lnTo>
                  <a:lnTo>
                    <a:pt x="4" y="1217"/>
                  </a:lnTo>
                  <a:lnTo>
                    <a:pt x="3" y="1181"/>
                  </a:lnTo>
                  <a:lnTo>
                    <a:pt x="2" y="1145"/>
                  </a:lnTo>
                  <a:lnTo>
                    <a:pt x="0" y="1100"/>
                  </a:lnTo>
                  <a:lnTo>
                    <a:pt x="3" y="1061"/>
                  </a:lnTo>
                  <a:lnTo>
                    <a:pt x="4" y="1019"/>
                  </a:lnTo>
                  <a:lnTo>
                    <a:pt x="6" y="981"/>
                  </a:lnTo>
                  <a:lnTo>
                    <a:pt x="9" y="942"/>
                  </a:lnTo>
                  <a:lnTo>
                    <a:pt x="13" y="912"/>
                  </a:lnTo>
                  <a:lnTo>
                    <a:pt x="18" y="879"/>
                  </a:lnTo>
                  <a:lnTo>
                    <a:pt x="24" y="854"/>
                  </a:lnTo>
                  <a:lnTo>
                    <a:pt x="33" y="837"/>
                  </a:lnTo>
                  <a:lnTo>
                    <a:pt x="46" y="821"/>
                  </a:lnTo>
                  <a:lnTo>
                    <a:pt x="60" y="811"/>
                  </a:lnTo>
                  <a:lnTo>
                    <a:pt x="78" y="799"/>
                  </a:lnTo>
                  <a:lnTo>
                    <a:pt x="94" y="796"/>
                  </a:lnTo>
                  <a:lnTo>
                    <a:pt x="115" y="791"/>
                  </a:lnTo>
                  <a:lnTo>
                    <a:pt x="142" y="790"/>
                  </a:lnTo>
                  <a:lnTo>
                    <a:pt x="166" y="791"/>
                  </a:lnTo>
                  <a:lnTo>
                    <a:pt x="199" y="796"/>
                  </a:lnTo>
                  <a:lnTo>
                    <a:pt x="228" y="797"/>
                  </a:lnTo>
                  <a:lnTo>
                    <a:pt x="252" y="799"/>
                  </a:lnTo>
                  <a:lnTo>
                    <a:pt x="285" y="800"/>
                  </a:lnTo>
                  <a:lnTo>
                    <a:pt x="319" y="796"/>
                  </a:lnTo>
                  <a:lnTo>
                    <a:pt x="348" y="790"/>
                  </a:lnTo>
                  <a:lnTo>
                    <a:pt x="375" y="779"/>
                  </a:lnTo>
                  <a:lnTo>
                    <a:pt x="392" y="769"/>
                  </a:lnTo>
                  <a:lnTo>
                    <a:pt x="410" y="752"/>
                  </a:lnTo>
                  <a:lnTo>
                    <a:pt x="424" y="731"/>
                  </a:lnTo>
                  <a:lnTo>
                    <a:pt x="433" y="710"/>
                  </a:lnTo>
                  <a:lnTo>
                    <a:pt x="436" y="688"/>
                  </a:lnTo>
                  <a:lnTo>
                    <a:pt x="434" y="671"/>
                  </a:lnTo>
                  <a:lnTo>
                    <a:pt x="433" y="640"/>
                  </a:lnTo>
                  <a:lnTo>
                    <a:pt x="434" y="608"/>
                  </a:lnTo>
                  <a:lnTo>
                    <a:pt x="440" y="584"/>
                  </a:lnTo>
                  <a:lnTo>
                    <a:pt x="448" y="562"/>
                  </a:lnTo>
                  <a:lnTo>
                    <a:pt x="458" y="545"/>
                  </a:lnTo>
                  <a:lnTo>
                    <a:pt x="479" y="529"/>
                  </a:lnTo>
                  <a:lnTo>
                    <a:pt x="502" y="517"/>
                  </a:lnTo>
                  <a:lnTo>
                    <a:pt x="530" y="508"/>
                  </a:lnTo>
                  <a:lnTo>
                    <a:pt x="559" y="500"/>
                  </a:lnTo>
                  <a:lnTo>
                    <a:pt x="583" y="494"/>
                  </a:lnTo>
                  <a:lnTo>
                    <a:pt x="613" y="490"/>
                  </a:lnTo>
                  <a:lnTo>
                    <a:pt x="641" y="484"/>
                  </a:lnTo>
                  <a:lnTo>
                    <a:pt x="674" y="475"/>
                  </a:lnTo>
                  <a:lnTo>
                    <a:pt x="706" y="461"/>
                  </a:lnTo>
                  <a:lnTo>
                    <a:pt x="733" y="440"/>
                  </a:lnTo>
                  <a:close/>
                </a:path>
              </a:pathLst>
            </a:custGeom>
            <a:solidFill>
              <a:srgbClr val="ff33cc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679560" y="3168720"/>
              <a:ext cx="1895400" cy="12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CIS/2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STEP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4618080" y="3662280"/>
            <a:ext cx="2754360" cy="2237040"/>
            <a:chOff x="4618080" y="3662280"/>
            <a:chExt cx="2754360" cy="2237040"/>
          </a:xfrm>
        </p:grpSpPr>
        <p:sp>
          <p:nvSpPr>
            <p:cNvPr id="94" name=""/>
            <p:cNvSpPr/>
            <p:nvPr/>
          </p:nvSpPr>
          <p:spPr>
            <a:xfrm>
              <a:off x="4618080" y="3662280"/>
              <a:ext cx="2754360" cy="2237040"/>
            </a:xfrm>
            <a:custGeom>
              <a:avLst/>
              <a:gdLst/>
              <a:ahLst/>
              <a:rect l="l" t="t" r="r" b="b"/>
              <a:pathLst>
                <a:path w="1735" h="1409">
                  <a:moveTo>
                    <a:pt x="0" y="1113"/>
                  </a:moveTo>
                  <a:lnTo>
                    <a:pt x="0" y="1409"/>
                  </a:lnTo>
                  <a:lnTo>
                    <a:pt x="1735" y="1409"/>
                  </a:lnTo>
                  <a:lnTo>
                    <a:pt x="1733" y="0"/>
                  </a:lnTo>
                  <a:lnTo>
                    <a:pt x="1579" y="0"/>
                  </a:lnTo>
                  <a:lnTo>
                    <a:pt x="1571" y="27"/>
                  </a:lnTo>
                  <a:lnTo>
                    <a:pt x="1571" y="47"/>
                  </a:lnTo>
                  <a:lnTo>
                    <a:pt x="1576" y="74"/>
                  </a:lnTo>
                  <a:lnTo>
                    <a:pt x="1585" y="102"/>
                  </a:lnTo>
                  <a:lnTo>
                    <a:pt x="1594" y="137"/>
                  </a:lnTo>
                  <a:lnTo>
                    <a:pt x="1598" y="164"/>
                  </a:lnTo>
                  <a:lnTo>
                    <a:pt x="1598" y="188"/>
                  </a:lnTo>
                  <a:lnTo>
                    <a:pt x="1595" y="215"/>
                  </a:lnTo>
                  <a:lnTo>
                    <a:pt x="1588" y="240"/>
                  </a:lnTo>
                  <a:lnTo>
                    <a:pt x="1571" y="264"/>
                  </a:lnTo>
                  <a:lnTo>
                    <a:pt x="1552" y="285"/>
                  </a:lnTo>
                  <a:lnTo>
                    <a:pt x="1531" y="304"/>
                  </a:lnTo>
                  <a:lnTo>
                    <a:pt x="1507" y="318"/>
                  </a:lnTo>
                  <a:lnTo>
                    <a:pt x="1478" y="328"/>
                  </a:lnTo>
                  <a:lnTo>
                    <a:pt x="1453" y="334"/>
                  </a:lnTo>
                  <a:lnTo>
                    <a:pt x="1417" y="336"/>
                  </a:lnTo>
                  <a:lnTo>
                    <a:pt x="1375" y="333"/>
                  </a:lnTo>
                  <a:lnTo>
                    <a:pt x="1348" y="328"/>
                  </a:lnTo>
                  <a:lnTo>
                    <a:pt x="1324" y="322"/>
                  </a:lnTo>
                  <a:lnTo>
                    <a:pt x="1302" y="309"/>
                  </a:lnTo>
                  <a:lnTo>
                    <a:pt x="1273" y="286"/>
                  </a:lnTo>
                  <a:lnTo>
                    <a:pt x="1255" y="265"/>
                  </a:lnTo>
                  <a:lnTo>
                    <a:pt x="1239" y="243"/>
                  </a:lnTo>
                  <a:lnTo>
                    <a:pt x="1230" y="219"/>
                  </a:lnTo>
                  <a:lnTo>
                    <a:pt x="1224" y="197"/>
                  </a:lnTo>
                  <a:lnTo>
                    <a:pt x="1224" y="171"/>
                  </a:lnTo>
                  <a:lnTo>
                    <a:pt x="1227" y="146"/>
                  </a:lnTo>
                  <a:lnTo>
                    <a:pt x="1233" y="122"/>
                  </a:lnTo>
                  <a:lnTo>
                    <a:pt x="1239" y="99"/>
                  </a:lnTo>
                  <a:lnTo>
                    <a:pt x="1246" y="75"/>
                  </a:lnTo>
                  <a:lnTo>
                    <a:pt x="1251" y="51"/>
                  </a:lnTo>
                  <a:lnTo>
                    <a:pt x="1251" y="30"/>
                  </a:lnTo>
                  <a:lnTo>
                    <a:pt x="1245" y="6"/>
                  </a:lnTo>
                  <a:lnTo>
                    <a:pt x="954" y="6"/>
                  </a:lnTo>
                  <a:lnTo>
                    <a:pt x="957" y="56"/>
                  </a:lnTo>
                  <a:lnTo>
                    <a:pt x="954" y="90"/>
                  </a:lnTo>
                  <a:lnTo>
                    <a:pt x="953" y="119"/>
                  </a:lnTo>
                  <a:lnTo>
                    <a:pt x="953" y="144"/>
                  </a:lnTo>
                  <a:lnTo>
                    <a:pt x="950" y="171"/>
                  </a:lnTo>
                  <a:lnTo>
                    <a:pt x="944" y="198"/>
                  </a:lnTo>
                  <a:lnTo>
                    <a:pt x="936" y="216"/>
                  </a:lnTo>
                  <a:lnTo>
                    <a:pt x="926" y="233"/>
                  </a:lnTo>
                  <a:lnTo>
                    <a:pt x="911" y="246"/>
                  </a:lnTo>
                  <a:lnTo>
                    <a:pt x="894" y="256"/>
                  </a:lnTo>
                  <a:lnTo>
                    <a:pt x="875" y="262"/>
                  </a:lnTo>
                  <a:lnTo>
                    <a:pt x="854" y="265"/>
                  </a:lnTo>
                  <a:lnTo>
                    <a:pt x="834" y="267"/>
                  </a:lnTo>
                  <a:lnTo>
                    <a:pt x="809" y="267"/>
                  </a:lnTo>
                  <a:lnTo>
                    <a:pt x="785" y="264"/>
                  </a:lnTo>
                  <a:lnTo>
                    <a:pt x="765" y="262"/>
                  </a:lnTo>
                  <a:lnTo>
                    <a:pt x="740" y="261"/>
                  </a:lnTo>
                  <a:lnTo>
                    <a:pt x="713" y="258"/>
                  </a:lnTo>
                  <a:lnTo>
                    <a:pt x="683" y="258"/>
                  </a:lnTo>
                  <a:lnTo>
                    <a:pt x="657" y="261"/>
                  </a:lnTo>
                  <a:lnTo>
                    <a:pt x="632" y="264"/>
                  </a:lnTo>
                  <a:lnTo>
                    <a:pt x="605" y="271"/>
                  </a:lnTo>
                  <a:lnTo>
                    <a:pt x="586" y="282"/>
                  </a:lnTo>
                  <a:lnTo>
                    <a:pt x="565" y="295"/>
                  </a:lnTo>
                  <a:lnTo>
                    <a:pt x="551" y="313"/>
                  </a:lnTo>
                  <a:lnTo>
                    <a:pt x="538" y="333"/>
                  </a:lnTo>
                  <a:lnTo>
                    <a:pt x="532" y="352"/>
                  </a:lnTo>
                  <a:lnTo>
                    <a:pt x="529" y="375"/>
                  </a:lnTo>
                  <a:lnTo>
                    <a:pt x="532" y="397"/>
                  </a:lnTo>
                  <a:lnTo>
                    <a:pt x="533" y="421"/>
                  </a:lnTo>
                  <a:lnTo>
                    <a:pt x="532" y="447"/>
                  </a:lnTo>
                  <a:lnTo>
                    <a:pt x="527" y="466"/>
                  </a:lnTo>
                  <a:lnTo>
                    <a:pt x="521" y="487"/>
                  </a:lnTo>
                  <a:lnTo>
                    <a:pt x="512" y="507"/>
                  </a:lnTo>
                  <a:lnTo>
                    <a:pt x="500" y="520"/>
                  </a:lnTo>
                  <a:lnTo>
                    <a:pt x="481" y="534"/>
                  </a:lnTo>
                  <a:lnTo>
                    <a:pt x="457" y="543"/>
                  </a:lnTo>
                  <a:lnTo>
                    <a:pt x="433" y="550"/>
                  </a:lnTo>
                  <a:lnTo>
                    <a:pt x="410" y="556"/>
                  </a:lnTo>
                  <a:lnTo>
                    <a:pt x="386" y="562"/>
                  </a:lnTo>
                  <a:lnTo>
                    <a:pt x="355" y="568"/>
                  </a:lnTo>
                  <a:lnTo>
                    <a:pt x="331" y="573"/>
                  </a:lnTo>
                  <a:lnTo>
                    <a:pt x="305" y="580"/>
                  </a:lnTo>
                  <a:lnTo>
                    <a:pt x="284" y="588"/>
                  </a:lnTo>
                  <a:lnTo>
                    <a:pt x="263" y="597"/>
                  </a:lnTo>
                  <a:lnTo>
                    <a:pt x="247" y="609"/>
                  </a:lnTo>
                  <a:lnTo>
                    <a:pt x="232" y="621"/>
                  </a:lnTo>
                  <a:lnTo>
                    <a:pt x="215" y="640"/>
                  </a:lnTo>
                  <a:lnTo>
                    <a:pt x="205" y="658"/>
                  </a:lnTo>
                  <a:lnTo>
                    <a:pt x="196" y="679"/>
                  </a:lnTo>
                  <a:lnTo>
                    <a:pt x="192" y="704"/>
                  </a:lnTo>
                  <a:lnTo>
                    <a:pt x="195" y="728"/>
                  </a:lnTo>
                  <a:lnTo>
                    <a:pt x="198" y="752"/>
                  </a:lnTo>
                  <a:lnTo>
                    <a:pt x="205" y="781"/>
                  </a:lnTo>
                  <a:lnTo>
                    <a:pt x="212" y="812"/>
                  </a:lnTo>
                  <a:lnTo>
                    <a:pt x="218" y="841"/>
                  </a:lnTo>
                  <a:lnTo>
                    <a:pt x="221" y="863"/>
                  </a:lnTo>
                  <a:lnTo>
                    <a:pt x="221" y="884"/>
                  </a:lnTo>
                  <a:lnTo>
                    <a:pt x="218" y="913"/>
                  </a:lnTo>
                  <a:lnTo>
                    <a:pt x="211" y="937"/>
                  </a:lnTo>
                  <a:lnTo>
                    <a:pt x="205" y="958"/>
                  </a:lnTo>
                  <a:lnTo>
                    <a:pt x="196" y="977"/>
                  </a:lnTo>
                  <a:lnTo>
                    <a:pt x="184" y="1003"/>
                  </a:lnTo>
                  <a:lnTo>
                    <a:pt x="168" y="1031"/>
                  </a:lnTo>
                  <a:lnTo>
                    <a:pt x="150" y="1052"/>
                  </a:lnTo>
                  <a:lnTo>
                    <a:pt x="132" y="1068"/>
                  </a:lnTo>
                  <a:lnTo>
                    <a:pt x="115" y="1083"/>
                  </a:lnTo>
                  <a:lnTo>
                    <a:pt x="97" y="1095"/>
                  </a:lnTo>
                  <a:lnTo>
                    <a:pt x="79" y="1103"/>
                  </a:lnTo>
                  <a:lnTo>
                    <a:pt x="54" y="1109"/>
                  </a:lnTo>
                  <a:lnTo>
                    <a:pt x="25" y="1113"/>
                  </a:lnTo>
                  <a:lnTo>
                    <a:pt x="0" y="1113"/>
                  </a:lnTo>
                  <a:close/>
                </a:path>
              </a:pathLst>
            </a:custGeom>
            <a:solidFill>
              <a:srgbClr val="0033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318640" y="4195800"/>
              <a:ext cx="1946880" cy="16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4x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Generi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Resource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4629240" y="1533600"/>
            <a:ext cx="2743200" cy="2668680"/>
            <a:chOff x="4629240" y="1533600"/>
            <a:chExt cx="2743200" cy="2668680"/>
          </a:xfrm>
        </p:grpSpPr>
        <p:sp>
          <p:nvSpPr>
            <p:cNvPr id="97" name=""/>
            <p:cNvSpPr/>
            <p:nvPr/>
          </p:nvSpPr>
          <p:spPr>
            <a:xfrm>
              <a:off x="4629240" y="153360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0" y="351"/>
                  </a:moveTo>
                  <a:lnTo>
                    <a:pt x="0" y="0"/>
                  </a:lnTo>
                  <a:lnTo>
                    <a:pt x="1726" y="0"/>
                  </a:lnTo>
                  <a:lnTo>
                    <a:pt x="1728" y="1343"/>
                  </a:lnTo>
                  <a:lnTo>
                    <a:pt x="1578" y="1343"/>
                  </a:lnTo>
                  <a:lnTo>
                    <a:pt x="1572" y="1355"/>
                  </a:lnTo>
                  <a:lnTo>
                    <a:pt x="1567" y="1371"/>
                  </a:lnTo>
                  <a:lnTo>
                    <a:pt x="1567" y="1385"/>
                  </a:lnTo>
                  <a:lnTo>
                    <a:pt x="1569" y="1401"/>
                  </a:lnTo>
                  <a:lnTo>
                    <a:pt x="1575" y="1422"/>
                  </a:lnTo>
                  <a:lnTo>
                    <a:pt x="1581" y="1449"/>
                  </a:lnTo>
                  <a:lnTo>
                    <a:pt x="1587" y="1467"/>
                  </a:lnTo>
                  <a:lnTo>
                    <a:pt x="1591" y="1490"/>
                  </a:lnTo>
                  <a:lnTo>
                    <a:pt x="1594" y="1511"/>
                  </a:lnTo>
                  <a:lnTo>
                    <a:pt x="1594" y="1532"/>
                  </a:lnTo>
                  <a:lnTo>
                    <a:pt x="1591" y="1551"/>
                  </a:lnTo>
                  <a:lnTo>
                    <a:pt x="1587" y="1572"/>
                  </a:lnTo>
                  <a:lnTo>
                    <a:pt x="1579" y="1591"/>
                  </a:lnTo>
                  <a:lnTo>
                    <a:pt x="1567" y="1606"/>
                  </a:lnTo>
                  <a:lnTo>
                    <a:pt x="1551" y="1624"/>
                  </a:lnTo>
                  <a:lnTo>
                    <a:pt x="1534" y="1638"/>
                  </a:lnTo>
                  <a:lnTo>
                    <a:pt x="1519" y="1651"/>
                  </a:lnTo>
                  <a:lnTo>
                    <a:pt x="1501" y="1662"/>
                  </a:lnTo>
                  <a:lnTo>
                    <a:pt x="1480" y="1669"/>
                  </a:lnTo>
                  <a:lnTo>
                    <a:pt x="1455" y="1677"/>
                  </a:lnTo>
                  <a:lnTo>
                    <a:pt x="1431" y="1680"/>
                  </a:lnTo>
                  <a:lnTo>
                    <a:pt x="1410" y="1681"/>
                  </a:lnTo>
                  <a:lnTo>
                    <a:pt x="1387" y="1681"/>
                  </a:lnTo>
                  <a:lnTo>
                    <a:pt x="1367" y="1680"/>
                  </a:lnTo>
                  <a:lnTo>
                    <a:pt x="1350" y="1677"/>
                  </a:lnTo>
                  <a:lnTo>
                    <a:pt x="1331" y="1671"/>
                  </a:lnTo>
                  <a:lnTo>
                    <a:pt x="1311" y="1665"/>
                  </a:lnTo>
                  <a:lnTo>
                    <a:pt x="1296" y="1656"/>
                  </a:lnTo>
                  <a:lnTo>
                    <a:pt x="1280" y="1644"/>
                  </a:lnTo>
                  <a:lnTo>
                    <a:pt x="1265" y="1629"/>
                  </a:lnTo>
                  <a:lnTo>
                    <a:pt x="1250" y="1612"/>
                  </a:lnTo>
                  <a:lnTo>
                    <a:pt x="1236" y="1596"/>
                  </a:lnTo>
                  <a:lnTo>
                    <a:pt x="1226" y="1578"/>
                  </a:lnTo>
                  <a:lnTo>
                    <a:pt x="1218" y="1556"/>
                  </a:lnTo>
                  <a:lnTo>
                    <a:pt x="1212" y="1530"/>
                  </a:lnTo>
                  <a:lnTo>
                    <a:pt x="1212" y="1506"/>
                  </a:lnTo>
                  <a:lnTo>
                    <a:pt x="1218" y="1482"/>
                  </a:lnTo>
                  <a:lnTo>
                    <a:pt x="1224" y="1458"/>
                  </a:lnTo>
                  <a:lnTo>
                    <a:pt x="1230" y="1434"/>
                  </a:lnTo>
                  <a:lnTo>
                    <a:pt x="1238" y="1407"/>
                  </a:lnTo>
                  <a:lnTo>
                    <a:pt x="1241" y="1386"/>
                  </a:lnTo>
                  <a:lnTo>
                    <a:pt x="1241" y="1374"/>
                  </a:lnTo>
                  <a:lnTo>
                    <a:pt x="1239" y="1364"/>
                  </a:lnTo>
                  <a:lnTo>
                    <a:pt x="1235" y="1352"/>
                  </a:lnTo>
                  <a:lnTo>
                    <a:pt x="947" y="1352"/>
                  </a:lnTo>
                  <a:lnTo>
                    <a:pt x="952" y="1301"/>
                  </a:lnTo>
                  <a:lnTo>
                    <a:pt x="950" y="1272"/>
                  </a:lnTo>
                  <a:lnTo>
                    <a:pt x="947" y="1245"/>
                  </a:lnTo>
                  <a:lnTo>
                    <a:pt x="944" y="1220"/>
                  </a:lnTo>
                  <a:lnTo>
                    <a:pt x="940" y="1203"/>
                  </a:lnTo>
                  <a:lnTo>
                    <a:pt x="932" y="1188"/>
                  </a:lnTo>
                  <a:lnTo>
                    <a:pt x="923" y="1175"/>
                  </a:lnTo>
                  <a:lnTo>
                    <a:pt x="908" y="1163"/>
                  </a:lnTo>
                  <a:lnTo>
                    <a:pt x="892" y="1153"/>
                  </a:lnTo>
                  <a:lnTo>
                    <a:pt x="875" y="1147"/>
                  </a:lnTo>
                  <a:lnTo>
                    <a:pt x="860" y="1144"/>
                  </a:lnTo>
                  <a:lnTo>
                    <a:pt x="835" y="1142"/>
                  </a:lnTo>
                  <a:lnTo>
                    <a:pt x="805" y="1142"/>
                  </a:lnTo>
                  <a:lnTo>
                    <a:pt x="776" y="1145"/>
                  </a:lnTo>
                  <a:lnTo>
                    <a:pt x="745" y="1147"/>
                  </a:lnTo>
                  <a:lnTo>
                    <a:pt x="721" y="1150"/>
                  </a:lnTo>
                  <a:lnTo>
                    <a:pt x="689" y="1151"/>
                  </a:lnTo>
                  <a:lnTo>
                    <a:pt x="664" y="1150"/>
                  </a:lnTo>
                  <a:lnTo>
                    <a:pt x="641" y="1147"/>
                  </a:lnTo>
                  <a:lnTo>
                    <a:pt x="607" y="1139"/>
                  </a:lnTo>
                  <a:lnTo>
                    <a:pt x="585" y="1129"/>
                  </a:lnTo>
                  <a:lnTo>
                    <a:pt x="564" y="1114"/>
                  </a:lnTo>
                  <a:lnTo>
                    <a:pt x="550" y="1097"/>
                  </a:lnTo>
                  <a:lnTo>
                    <a:pt x="538" y="1079"/>
                  </a:lnTo>
                  <a:lnTo>
                    <a:pt x="529" y="1057"/>
                  </a:lnTo>
                  <a:lnTo>
                    <a:pt x="528" y="1033"/>
                  </a:lnTo>
                  <a:lnTo>
                    <a:pt x="528" y="1003"/>
                  </a:lnTo>
                  <a:lnTo>
                    <a:pt x="529" y="980"/>
                  </a:lnTo>
                  <a:lnTo>
                    <a:pt x="528" y="958"/>
                  </a:lnTo>
                  <a:lnTo>
                    <a:pt x="522" y="932"/>
                  </a:lnTo>
                  <a:lnTo>
                    <a:pt x="517" y="917"/>
                  </a:lnTo>
                  <a:lnTo>
                    <a:pt x="510" y="902"/>
                  </a:lnTo>
                  <a:lnTo>
                    <a:pt x="501" y="892"/>
                  </a:lnTo>
                  <a:lnTo>
                    <a:pt x="492" y="883"/>
                  </a:lnTo>
                  <a:lnTo>
                    <a:pt x="472" y="874"/>
                  </a:lnTo>
                  <a:lnTo>
                    <a:pt x="450" y="863"/>
                  </a:lnTo>
                  <a:lnTo>
                    <a:pt x="424" y="856"/>
                  </a:lnTo>
                  <a:lnTo>
                    <a:pt x="394" y="848"/>
                  </a:lnTo>
                  <a:lnTo>
                    <a:pt x="364" y="842"/>
                  </a:lnTo>
                  <a:lnTo>
                    <a:pt x="333" y="838"/>
                  </a:lnTo>
                  <a:lnTo>
                    <a:pt x="310" y="830"/>
                  </a:lnTo>
                  <a:lnTo>
                    <a:pt x="286" y="823"/>
                  </a:lnTo>
                  <a:lnTo>
                    <a:pt x="262" y="814"/>
                  </a:lnTo>
                  <a:lnTo>
                    <a:pt x="246" y="800"/>
                  </a:lnTo>
                  <a:lnTo>
                    <a:pt x="226" y="784"/>
                  </a:lnTo>
                  <a:lnTo>
                    <a:pt x="213" y="769"/>
                  </a:lnTo>
                  <a:lnTo>
                    <a:pt x="201" y="751"/>
                  </a:lnTo>
                  <a:lnTo>
                    <a:pt x="192" y="730"/>
                  </a:lnTo>
                  <a:lnTo>
                    <a:pt x="189" y="708"/>
                  </a:lnTo>
                  <a:lnTo>
                    <a:pt x="189" y="687"/>
                  </a:lnTo>
                  <a:lnTo>
                    <a:pt x="194" y="667"/>
                  </a:lnTo>
                  <a:lnTo>
                    <a:pt x="201" y="639"/>
                  </a:lnTo>
                  <a:lnTo>
                    <a:pt x="208" y="610"/>
                  </a:lnTo>
                  <a:lnTo>
                    <a:pt x="211" y="585"/>
                  </a:lnTo>
                  <a:lnTo>
                    <a:pt x="217" y="559"/>
                  </a:lnTo>
                  <a:lnTo>
                    <a:pt x="220" y="534"/>
                  </a:lnTo>
                  <a:lnTo>
                    <a:pt x="217" y="507"/>
                  </a:lnTo>
                  <a:lnTo>
                    <a:pt x="211" y="483"/>
                  </a:lnTo>
                  <a:lnTo>
                    <a:pt x="202" y="459"/>
                  </a:lnTo>
                  <a:lnTo>
                    <a:pt x="191" y="436"/>
                  </a:lnTo>
                  <a:lnTo>
                    <a:pt x="177" y="418"/>
                  </a:lnTo>
                  <a:lnTo>
                    <a:pt x="170" y="408"/>
                  </a:lnTo>
                  <a:lnTo>
                    <a:pt x="156" y="394"/>
                  </a:lnTo>
                  <a:lnTo>
                    <a:pt x="143" y="383"/>
                  </a:lnTo>
                  <a:lnTo>
                    <a:pt x="129" y="374"/>
                  </a:lnTo>
                  <a:lnTo>
                    <a:pt x="111" y="365"/>
                  </a:lnTo>
                  <a:lnTo>
                    <a:pt x="93" y="359"/>
                  </a:lnTo>
                  <a:lnTo>
                    <a:pt x="71" y="353"/>
                  </a:lnTo>
                  <a:lnTo>
                    <a:pt x="45" y="351"/>
                  </a:lnTo>
                  <a:lnTo>
                    <a:pt x="23" y="351"/>
                  </a:lnTo>
                  <a:lnTo>
                    <a:pt x="0" y="351"/>
                  </a:lnTo>
                  <a:close/>
                </a:path>
              </a:pathLst>
            </a:custGeom>
            <a:solidFill>
              <a:srgbClr val="cc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946040" y="1619280"/>
              <a:ext cx="2386080" cy="16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21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Physical Fil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Forma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" name=""/>
          <p:cNvGrpSpPr/>
          <p:nvPr/>
        </p:nvGrpSpPr>
        <p:grpSpPr>
          <a:xfrm>
            <a:off x="1874880" y="1533600"/>
            <a:ext cx="2754360" cy="2236680"/>
            <a:chOff x="1874880" y="1533600"/>
            <a:chExt cx="2754360" cy="2236680"/>
          </a:xfrm>
        </p:grpSpPr>
        <p:sp>
          <p:nvSpPr>
            <p:cNvPr id="100" name=""/>
            <p:cNvSpPr/>
            <p:nvPr/>
          </p:nvSpPr>
          <p:spPr>
            <a:xfrm>
              <a:off x="1874880" y="1533600"/>
              <a:ext cx="2754360" cy="2236680"/>
            </a:xfrm>
            <a:custGeom>
              <a:avLst/>
              <a:gdLst/>
              <a:ahLst/>
              <a:rect l="l" t="t" r="r" b="b"/>
              <a:pathLst>
                <a:path w="1735" h="1409">
                  <a:moveTo>
                    <a:pt x="1735" y="351"/>
                  </a:moveTo>
                  <a:lnTo>
                    <a:pt x="1735" y="0"/>
                  </a:lnTo>
                  <a:lnTo>
                    <a:pt x="0" y="0"/>
                  </a:lnTo>
                  <a:lnTo>
                    <a:pt x="2" y="1409"/>
                  </a:lnTo>
                  <a:lnTo>
                    <a:pt x="156" y="1409"/>
                  </a:lnTo>
                  <a:lnTo>
                    <a:pt x="164" y="1382"/>
                  </a:lnTo>
                  <a:lnTo>
                    <a:pt x="164" y="1362"/>
                  </a:lnTo>
                  <a:lnTo>
                    <a:pt x="159" y="1335"/>
                  </a:lnTo>
                  <a:lnTo>
                    <a:pt x="150" y="1307"/>
                  </a:lnTo>
                  <a:lnTo>
                    <a:pt x="141" y="1272"/>
                  </a:lnTo>
                  <a:lnTo>
                    <a:pt x="137" y="1245"/>
                  </a:lnTo>
                  <a:lnTo>
                    <a:pt x="135" y="1221"/>
                  </a:lnTo>
                  <a:lnTo>
                    <a:pt x="140" y="1194"/>
                  </a:lnTo>
                  <a:lnTo>
                    <a:pt x="147" y="1169"/>
                  </a:lnTo>
                  <a:lnTo>
                    <a:pt x="164" y="1144"/>
                  </a:lnTo>
                  <a:lnTo>
                    <a:pt x="183" y="1124"/>
                  </a:lnTo>
                  <a:lnTo>
                    <a:pt x="204" y="1105"/>
                  </a:lnTo>
                  <a:lnTo>
                    <a:pt x="228" y="1091"/>
                  </a:lnTo>
                  <a:lnTo>
                    <a:pt x="257" y="1079"/>
                  </a:lnTo>
                  <a:lnTo>
                    <a:pt x="282" y="1075"/>
                  </a:lnTo>
                  <a:lnTo>
                    <a:pt x="318" y="1073"/>
                  </a:lnTo>
                  <a:lnTo>
                    <a:pt x="360" y="1076"/>
                  </a:lnTo>
                  <a:lnTo>
                    <a:pt x="387" y="1079"/>
                  </a:lnTo>
                  <a:lnTo>
                    <a:pt x="411" y="1087"/>
                  </a:lnTo>
                  <a:lnTo>
                    <a:pt x="433" y="1100"/>
                  </a:lnTo>
                  <a:lnTo>
                    <a:pt x="462" y="1123"/>
                  </a:lnTo>
                  <a:lnTo>
                    <a:pt x="480" y="1144"/>
                  </a:lnTo>
                  <a:lnTo>
                    <a:pt x="496" y="1166"/>
                  </a:lnTo>
                  <a:lnTo>
                    <a:pt x="505" y="1190"/>
                  </a:lnTo>
                  <a:lnTo>
                    <a:pt x="511" y="1212"/>
                  </a:lnTo>
                  <a:lnTo>
                    <a:pt x="511" y="1238"/>
                  </a:lnTo>
                  <a:lnTo>
                    <a:pt x="508" y="1263"/>
                  </a:lnTo>
                  <a:lnTo>
                    <a:pt x="502" y="1287"/>
                  </a:lnTo>
                  <a:lnTo>
                    <a:pt x="496" y="1310"/>
                  </a:lnTo>
                  <a:lnTo>
                    <a:pt x="489" y="1334"/>
                  </a:lnTo>
                  <a:lnTo>
                    <a:pt x="484" y="1358"/>
                  </a:lnTo>
                  <a:lnTo>
                    <a:pt x="484" y="1379"/>
                  </a:lnTo>
                  <a:lnTo>
                    <a:pt x="490" y="1403"/>
                  </a:lnTo>
                  <a:lnTo>
                    <a:pt x="781" y="1403"/>
                  </a:lnTo>
                  <a:lnTo>
                    <a:pt x="778" y="1353"/>
                  </a:lnTo>
                  <a:lnTo>
                    <a:pt x="781" y="1317"/>
                  </a:lnTo>
                  <a:lnTo>
                    <a:pt x="781" y="1290"/>
                  </a:lnTo>
                  <a:lnTo>
                    <a:pt x="782" y="1265"/>
                  </a:lnTo>
                  <a:lnTo>
                    <a:pt x="785" y="1238"/>
                  </a:lnTo>
                  <a:lnTo>
                    <a:pt x="791" y="1211"/>
                  </a:lnTo>
                  <a:lnTo>
                    <a:pt x="799" y="1193"/>
                  </a:lnTo>
                  <a:lnTo>
                    <a:pt x="809" y="1177"/>
                  </a:lnTo>
                  <a:lnTo>
                    <a:pt x="824" y="1163"/>
                  </a:lnTo>
                  <a:lnTo>
                    <a:pt x="841" y="1153"/>
                  </a:lnTo>
                  <a:lnTo>
                    <a:pt x="860" y="1147"/>
                  </a:lnTo>
                  <a:lnTo>
                    <a:pt x="881" y="1144"/>
                  </a:lnTo>
                  <a:lnTo>
                    <a:pt x="901" y="1142"/>
                  </a:lnTo>
                  <a:lnTo>
                    <a:pt x="926" y="1142"/>
                  </a:lnTo>
                  <a:lnTo>
                    <a:pt x="950" y="1144"/>
                  </a:lnTo>
                  <a:lnTo>
                    <a:pt x="970" y="1147"/>
                  </a:lnTo>
                  <a:lnTo>
                    <a:pt x="995" y="1148"/>
                  </a:lnTo>
                  <a:lnTo>
                    <a:pt x="1022" y="1151"/>
                  </a:lnTo>
                  <a:lnTo>
                    <a:pt x="1052" y="1151"/>
                  </a:lnTo>
                  <a:lnTo>
                    <a:pt x="1078" y="1148"/>
                  </a:lnTo>
                  <a:lnTo>
                    <a:pt x="1103" y="1144"/>
                  </a:lnTo>
                  <a:lnTo>
                    <a:pt x="1130" y="1138"/>
                  </a:lnTo>
                  <a:lnTo>
                    <a:pt x="1150" y="1127"/>
                  </a:lnTo>
                  <a:lnTo>
                    <a:pt x="1170" y="1114"/>
                  </a:lnTo>
                  <a:lnTo>
                    <a:pt x="1184" y="1096"/>
                  </a:lnTo>
                  <a:lnTo>
                    <a:pt x="1197" y="1076"/>
                  </a:lnTo>
                  <a:lnTo>
                    <a:pt x="1203" y="1057"/>
                  </a:lnTo>
                  <a:lnTo>
                    <a:pt x="1206" y="1034"/>
                  </a:lnTo>
                  <a:lnTo>
                    <a:pt x="1203" y="1012"/>
                  </a:lnTo>
                  <a:lnTo>
                    <a:pt x="1202" y="988"/>
                  </a:lnTo>
                  <a:lnTo>
                    <a:pt x="1203" y="962"/>
                  </a:lnTo>
                  <a:lnTo>
                    <a:pt x="1208" y="943"/>
                  </a:lnTo>
                  <a:lnTo>
                    <a:pt x="1214" y="922"/>
                  </a:lnTo>
                  <a:lnTo>
                    <a:pt x="1223" y="902"/>
                  </a:lnTo>
                  <a:lnTo>
                    <a:pt x="1235" y="889"/>
                  </a:lnTo>
                  <a:lnTo>
                    <a:pt x="1254" y="875"/>
                  </a:lnTo>
                  <a:lnTo>
                    <a:pt x="1278" y="866"/>
                  </a:lnTo>
                  <a:lnTo>
                    <a:pt x="1302" y="859"/>
                  </a:lnTo>
                  <a:lnTo>
                    <a:pt x="1325" y="853"/>
                  </a:lnTo>
                  <a:lnTo>
                    <a:pt x="1349" y="847"/>
                  </a:lnTo>
                  <a:lnTo>
                    <a:pt x="1380" y="841"/>
                  </a:lnTo>
                  <a:lnTo>
                    <a:pt x="1404" y="836"/>
                  </a:lnTo>
                  <a:lnTo>
                    <a:pt x="1430" y="829"/>
                  </a:lnTo>
                  <a:lnTo>
                    <a:pt x="1451" y="821"/>
                  </a:lnTo>
                  <a:lnTo>
                    <a:pt x="1472" y="812"/>
                  </a:lnTo>
                  <a:lnTo>
                    <a:pt x="1488" y="800"/>
                  </a:lnTo>
                  <a:lnTo>
                    <a:pt x="1503" y="788"/>
                  </a:lnTo>
                  <a:lnTo>
                    <a:pt x="1520" y="769"/>
                  </a:lnTo>
                  <a:lnTo>
                    <a:pt x="1530" y="751"/>
                  </a:lnTo>
                  <a:lnTo>
                    <a:pt x="1539" y="730"/>
                  </a:lnTo>
                  <a:lnTo>
                    <a:pt x="1544" y="703"/>
                  </a:lnTo>
                  <a:lnTo>
                    <a:pt x="1541" y="681"/>
                  </a:lnTo>
                  <a:lnTo>
                    <a:pt x="1538" y="657"/>
                  </a:lnTo>
                  <a:lnTo>
                    <a:pt x="1530" y="628"/>
                  </a:lnTo>
                  <a:lnTo>
                    <a:pt x="1523" y="597"/>
                  </a:lnTo>
                  <a:lnTo>
                    <a:pt x="1515" y="568"/>
                  </a:lnTo>
                  <a:lnTo>
                    <a:pt x="1514" y="546"/>
                  </a:lnTo>
                  <a:lnTo>
                    <a:pt x="1514" y="525"/>
                  </a:lnTo>
                  <a:lnTo>
                    <a:pt x="1517" y="496"/>
                  </a:lnTo>
                  <a:lnTo>
                    <a:pt x="1524" y="472"/>
                  </a:lnTo>
                  <a:lnTo>
                    <a:pt x="1532" y="454"/>
                  </a:lnTo>
                  <a:lnTo>
                    <a:pt x="1542" y="436"/>
                  </a:lnTo>
                  <a:lnTo>
                    <a:pt x="1557" y="417"/>
                  </a:lnTo>
                  <a:lnTo>
                    <a:pt x="1573" y="397"/>
                  </a:lnTo>
                  <a:lnTo>
                    <a:pt x="1594" y="381"/>
                  </a:lnTo>
                  <a:lnTo>
                    <a:pt x="1617" y="368"/>
                  </a:lnTo>
                  <a:lnTo>
                    <a:pt x="1638" y="360"/>
                  </a:lnTo>
                  <a:lnTo>
                    <a:pt x="1659" y="354"/>
                  </a:lnTo>
                  <a:lnTo>
                    <a:pt x="1681" y="351"/>
                  </a:lnTo>
                  <a:lnTo>
                    <a:pt x="1708" y="351"/>
                  </a:lnTo>
                  <a:lnTo>
                    <a:pt x="1735" y="351"/>
                  </a:lnTo>
                  <a:close/>
                </a:path>
              </a:pathLst>
            </a:custGeom>
            <a:solidFill>
              <a:srgbClr val="008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917000" y="1663560"/>
              <a:ext cx="2010960" cy="11300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11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EXPRES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1874880" y="3230640"/>
            <a:ext cx="2743200" cy="2668680"/>
            <a:chOff x="1874880" y="3230640"/>
            <a:chExt cx="2743200" cy="2668680"/>
          </a:xfrm>
        </p:grpSpPr>
        <p:sp>
          <p:nvSpPr>
            <p:cNvPr id="103" name=""/>
            <p:cNvSpPr/>
            <p:nvPr/>
          </p:nvSpPr>
          <p:spPr>
            <a:xfrm>
              <a:off x="1874880" y="323064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9933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961280" y="4581360"/>
              <a:ext cx="1767240" cy="119124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22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SDAI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pping Enumeration data 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numeration data typ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e actual value in an instance of the ENUMERATION shall be one of the enumerated values in the EXPRESS schema, in capital letters and delimited by full stops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Mapping Enumeration types: Example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xample entity definition in EXPRES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YPE primary_colour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ENUMERATION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OF (red, green, blue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D_TYPE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TITY widget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p_colour : primary_colour;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ample entity instance in data sectio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#2 = WIDGET(.RED.);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764960" y="3459240"/>
            <a:ext cx="916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idg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762160" y="3292560"/>
            <a:ext cx="105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_colou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6772320" y="3424320"/>
            <a:ext cx="2073960" cy="374400"/>
            <a:chOff x="6772320" y="3424320"/>
            <a:chExt cx="2073960" cy="374400"/>
          </a:xfrm>
        </p:grpSpPr>
        <p:sp>
          <p:nvSpPr>
            <p:cNvPr id="199" name=""/>
            <p:cNvSpPr/>
            <p:nvPr/>
          </p:nvSpPr>
          <p:spPr>
            <a:xfrm>
              <a:off x="6772320" y="3576600"/>
              <a:ext cx="18000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957720" y="3427560"/>
              <a:ext cx="188856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primary_colou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V="1">
              <a:off x="8730360" y="3424320"/>
              <a:ext cx="0" cy="3744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02" name=""/>
          <p:cNvCxnSpPr>
            <a:stCxn id="196" idx="3"/>
            <a:endCxn id="199" idx="2"/>
          </p:cNvCxnSpPr>
          <p:nvPr/>
        </p:nvCxnSpPr>
        <p:spPr>
          <a:xfrm flipV="1">
            <a:off x="5711760" y="3652200"/>
            <a:ext cx="1046880" cy="19800"/>
          </a:xfrm>
          <a:prstGeom prst="straightConnector1">
            <a:avLst/>
          </a:prstGeom>
          <a:ln w="28440">
            <a:solidFill>
              <a:srgbClr val="ffffff"/>
            </a:solidFill>
            <a:miter/>
          </a:ln>
        </p:spPr>
      </p:cxnSp>
    </p:spTree>
  </p:cSld>
  <p:transition>
    <p:wipe dir="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pping SELECT data 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Defines a list of data types,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alled the 'select-list'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whose values are valid instances of select data type,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nd include all of the subtype entities of supertyp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601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n instance of a select data type shall be a value of a least one of the data types in the select-list.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  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f the data type in the select list is itself a select data type, then the encoding rules are applied recursively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Only instances of entity data types, simple data types and enumeration data types can actually be encoded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Mapping SELECT types: Example (1)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843800" y="1392120"/>
            <a:ext cx="2318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6240600" y="2359080"/>
            <a:ext cx="690480" cy="592560"/>
            <a:chOff x="6240600" y="2359080"/>
            <a:chExt cx="690480" cy="592560"/>
          </a:xfrm>
        </p:grpSpPr>
        <p:sp>
          <p:nvSpPr>
            <p:cNvPr id="208" name=""/>
            <p:cNvSpPr/>
            <p:nvPr/>
          </p:nvSpPr>
          <p:spPr>
            <a:xfrm>
              <a:off x="6240600" y="2581200"/>
              <a:ext cx="690480" cy="36828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uni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491160" y="2359080"/>
              <a:ext cx="18684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 flipV="1">
              <a:off x="6350040" y="2563200"/>
              <a:ext cx="0" cy="38844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11" name=""/>
          <p:cNvCxnSpPr>
            <a:stCxn id="212" idx="2"/>
            <a:endCxn id="209" idx="0"/>
          </p:cNvCxnSpPr>
          <p:nvPr/>
        </p:nvCxnSpPr>
        <p:spPr>
          <a:xfrm>
            <a:off x="6584760" y="1832040"/>
            <a:ext cx="1080" cy="513360"/>
          </a:xfrm>
          <a:prstGeom prst="straightConnector1">
            <a:avLst/>
          </a:prstGeom>
          <a:ln w="28440">
            <a:solidFill>
              <a:srgbClr val="ffffff"/>
            </a:solidFill>
            <a:miter/>
          </a:ln>
        </p:spPr>
      </p:cxnSp>
      <p:grpSp>
        <p:nvGrpSpPr>
          <p:cNvPr id="213" name=""/>
          <p:cNvGrpSpPr/>
          <p:nvPr/>
        </p:nvGrpSpPr>
        <p:grpSpPr>
          <a:xfrm>
            <a:off x="7205760" y="3121200"/>
            <a:ext cx="1792440" cy="398880"/>
            <a:chOff x="7205760" y="3121200"/>
            <a:chExt cx="1792440" cy="398880"/>
          </a:xfrm>
        </p:grpSpPr>
        <p:sp>
          <p:nvSpPr>
            <p:cNvPr id="214" name=""/>
            <p:cNvSpPr/>
            <p:nvPr/>
          </p:nvSpPr>
          <p:spPr>
            <a:xfrm>
              <a:off x="7428960" y="3121200"/>
              <a:ext cx="1569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deriv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205760" y="3222720"/>
              <a:ext cx="18756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7232760" y="3711600"/>
            <a:ext cx="1734840" cy="398880"/>
            <a:chOff x="7232760" y="3711600"/>
            <a:chExt cx="1734840" cy="398880"/>
          </a:xfrm>
        </p:grpSpPr>
        <p:sp>
          <p:nvSpPr>
            <p:cNvPr id="217" name=""/>
            <p:cNvSpPr/>
            <p:nvPr/>
          </p:nvSpPr>
          <p:spPr>
            <a:xfrm>
              <a:off x="7456320" y="3711600"/>
              <a:ext cx="1511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nam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232760" y="3813120"/>
              <a:ext cx="18720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19" name=""/>
          <p:cNvCxnSpPr>
            <a:stCxn id="208" idx="2"/>
            <a:endCxn id="218" idx="2"/>
          </p:cNvCxnSpPr>
          <p:nvPr/>
        </p:nvCxnSpPr>
        <p:spPr>
          <a:xfrm flipH="1" rot="16200000">
            <a:off x="6443640" y="3132720"/>
            <a:ext cx="916560" cy="632520"/>
          </a:xfrm>
          <a:prstGeom prst="bentConnector2">
            <a:avLst/>
          </a:prstGeom>
          <a:ln w="28440">
            <a:solidFill>
              <a:srgbClr val="ffffff"/>
            </a:solidFill>
            <a:miter/>
          </a:ln>
        </p:spPr>
      </p:cxnSp>
      <p:cxnSp>
        <p:nvCxnSpPr>
          <p:cNvPr id="220" name=""/>
          <p:cNvCxnSpPr>
            <a:stCxn id="208" idx="2"/>
            <a:endCxn id="215" idx="2"/>
          </p:cNvCxnSpPr>
          <p:nvPr/>
        </p:nvCxnSpPr>
        <p:spPr>
          <a:xfrm flipH="1" rot="16200000">
            <a:off x="6726240" y="2850840"/>
            <a:ext cx="326160" cy="605520"/>
          </a:xfrm>
          <a:prstGeom prst="bentConnector2">
            <a:avLst/>
          </a:prstGeom>
          <a:ln w="28440">
            <a:solidFill>
              <a:srgbClr val="ffffff"/>
            </a:solidFill>
            <a:miter/>
          </a:ln>
        </p:spPr>
      </p:cxnSp>
      <p:sp>
        <p:nvSpPr>
          <p:cNvPr id="221" name=""/>
          <p:cNvSpPr/>
          <p:nvPr/>
        </p:nvSpPr>
        <p:spPr>
          <a:xfrm>
            <a:off x="6604560" y="1978200"/>
            <a:ext cx="180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811080" y="1413000"/>
            <a:ext cx="1889280" cy="36828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easure_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714760" y="1517760"/>
            <a:ext cx="19188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950760" y="1395000"/>
            <a:ext cx="0" cy="3891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5" name=""/>
          <p:cNvCxnSpPr>
            <a:stCxn id="206" idx="1"/>
            <a:endCxn id="223" idx="6"/>
          </p:cNvCxnSpPr>
          <p:nvPr/>
        </p:nvCxnSpPr>
        <p:spPr>
          <a:xfrm flipH="1">
            <a:off x="2920320" y="1604880"/>
            <a:ext cx="1896120" cy="72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26" name=""/>
          <p:cNvSpPr/>
          <p:nvPr/>
        </p:nvSpPr>
        <p:spPr>
          <a:xfrm>
            <a:off x="2852280" y="1224000"/>
            <a:ext cx="197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alue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294160" y="1722600"/>
            <a:ext cx="103320" cy="1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821120" y="2849400"/>
            <a:ext cx="18756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779560" y="2571840"/>
            <a:ext cx="200808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ength_measure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792520" y="3511440"/>
            <a:ext cx="199872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ss_measure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808520" y="375588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964240" y="4384800"/>
            <a:ext cx="17946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ime_measure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808520" y="466740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27" idx="2"/>
            <a:endCxn id="228" idx="6"/>
          </p:cNvCxnSpPr>
          <p:nvPr/>
        </p:nvCxnSpPr>
        <p:spPr>
          <a:xfrm rot="5400000">
            <a:off x="4639680" y="2236680"/>
            <a:ext cx="1104120" cy="310320"/>
          </a:xfrm>
          <a:prstGeom prst="bentConnector2">
            <a:avLst/>
          </a:prstGeom>
          <a:ln w="76320">
            <a:solidFill>
              <a:srgbClr val="ffffff"/>
            </a:solidFill>
            <a:miter/>
          </a:ln>
        </p:spPr>
      </p:cxnSp>
      <p:cxnSp>
        <p:nvCxnSpPr>
          <p:cNvPr id="235" name=""/>
          <p:cNvCxnSpPr>
            <a:stCxn id="227" idx="2"/>
            <a:endCxn id="231" idx="6"/>
          </p:cNvCxnSpPr>
          <p:nvPr/>
        </p:nvCxnSpPr>
        <p:spPr>
          <a:xfrm rot="5400000">
            <a:off x="4179960" y="2683440"/>
            <a:ext cx="2010600" cy="322920"/>
          </a:xfrm>
          <a:prstGeom prst="bentConnector2">
            <a:avLst/>
          </a:prstGeom>
          <a:ln w="76320">
            <a:solidFill>
              <a:srgbClr val="ffffff"/>
            </a:solidFill>
            <a:miter/>
          </a:ln>
        </p:spPr>
      </p:cxnSp>
      <p:cxnSp>
        <p:nvCxnSpPr>
          <p:cNvPr id="236" name=""/>
          <p:cNvCxnSpPr>
            <a:stCxn id="227" idx="2"/>
            <a:endCxn id="233" idx="6"/>
          </p:cNvCxnSpPr>
          <p:nvPr/>
        </p:nvCxnSpPr>
        <p:spPr>
          <a:xfrm rot="5400000">
            <a:off x="3724200" y="3139200"/>
            <a:ext cx="2921760" cy="322920"/>
          </a:xfrm>
          <a:prstGeom prst="bentConnector2">
            <a:avLst/>
          </a:prstGeom>
          <a:ln w="76320">
            <a:solidFill>
              <a:srgbClr val="ffffff"/>
            </a:solidFill>
            <a:miter/>
          </a:ln>
        </p:spPr>
      </p:cxnSp>
      <p:sp>
        <p:nvSpPr>
          <p:cNvPr id="237" name=""/>
          <p:cNvSpPr/>
          <p:nvPr/>
        </p:nvSpPr>
        <p:spPr>
          <a:xfrm>
            <a:off x="5009760" y="240984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620640" y="3432240"/>
            <a:ext cx="1123560" cy="576360"/>
            <a:chOff x="620640" y="3432240"/>
            <a:chExt cx="1123560" cy="576360"/>
          </a:xfrm>
        </p:grpSpPr>
        <p:sp>
          <p:nvSpPr>
            <p:cNvPr id="239" name=""/>
            <p:cNvSpPr/>
            <p:nvPr/>
          </p:nvSpPr>
          <p:spPr>
            <a:xfrm>
              <a:off x="825480" y="3618000"/>
              <a:ext cx="7765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20640" y="374184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137960" y="3432240"/>
              <a:ext cx="15192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599840" y="3618000"/>
              <a:ext cx="144360" cy="390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43" name=""/>
          <p:cNvCxnSpPr>
            <a:stCxn id="244" idx="2"/>
            <a:endCxn id="241" idx="0"/>
          </p:cNvCxnSpPr>
          <p:nvPr/>
        </p:nvCxnSpPr>
        <p:spPr>
          <a:xfrm>
            <a:off x="1209240" y="3001680"/>
            <a:ext cx="5400" cy="4165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245" name=""/>
          <p:cNvGrpSpPr/>
          <p:nvPr/>
        </p:nvGrpSpPr>
        <p:grpSpPr>
          <a:xfrm>
            <a:off x="6042600" y="4551480"/>
            <a:ext cx="1664640" cy="398880"/>
            <a:chOff x="6042600" y="4551480"/>
            <a:chExt cx="1664640" cy="398880"/>
          </a:xfrm>
        </p:grpSpPr>
        <p:sp>
          <p:nvSpPr>
            <p:cNvPr id="246" name=""/>
            <p:cNvSpPr/>
            <p:nvPr/>
          </p:nvSpPr>
          <p:spPr>
            <a:xfrm>
              <a:off x="7520040" y="466884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042600" y="4551480"/>
              <a:ext cx="14259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length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8" name=""/>
          <p:cNvGrpSpPr/>
          <p:nvPr/>
        </p:nvGrpSpPr>
        <p:grpSpPr>
          <a:xfrm>
            <a:off x="6133320" y="5157720"/>
            <a:ext cx="1573560" cy="398880"/>
            <a:chOff x="6133320" y="5157720"/>
            <a:chExt cx="1573560" cy="398880"/>
          </a:xfrm>
        </p:grpSpPr>
        <p:sp>
          <p:nvSpPr>
            <p:cNvPr id="249" name=""/>
            <p:cNvSpPr/>
            <p:nvPr/>
          </p:nvSpPr>
          <p:spPr>
            <a:xfrm>
              <a:off x="6133320" y="5157720"/>
              <a:ext cx="13420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ass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519680" y="52974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6250680" y="5719680"/>
            <a:ext cx="1456200" cy="398880"/>
            <a:chOff x="6250680" y="5719680"/>
            <a:chExt cx="1456200" cy="398880"/>
          </a:xfrm>
        </p:grpSpPr>
        <p:sp>
          <p:nvSpPr>
            <p:cNvPr id="252" name=""/>
            <p:cNvSpPr/>
            <p:nvPr/>
          </p:nvSpPr>
          <p:spPr>
            <a:xfrm>
              <a:off x="6250680" y="5719680"/>
              <a:ext cx="12124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time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519680" y="583092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54" name=""/>
          <p:cNvCxnSpPr>
            <a:stCxn id="217" idx="2"/>
            <a:endCxn id="246" idx="6"/>
          </p:cNvCxnSpPr>
          <p:nvPr/>
        </p:nvCxnSpPr>
        <p:spPr>
          <a:xfrm rot="5400000">
            <a:off x="7667640" y="4218840"/>
            <a:ext cx="612000" cy="476640"/>
          </a:xfrm>
          <a:prstGeom prst="bentConnector2">
            <a:avLst/>
          </a:prstGeom>
          <a:ln w="76320">
            <a:solidFill>
              <a:srgbClr val="ffffff"/>
            </a:solidFill>
            <a:miter/>
          </a:ln>
        </p:spPr>
      </p:cxnSp>
      <p:cxnSp>
        <p:nvCxnSpPr>
          <p:cNvPr id="255" name=""/>
          <p:cNvCxnSpPr>
            <a:stCxn id="217" idx="2"/>
            <a:endCxn id="250" idx="6"/>
          </p:cNvCxnSpPr>
          <p:nvPr/>
        </p:nvCxnSpPr>
        <p:spPr>
          <a:xfrm rot="5400000">
            <a:off x="7353360" y="4533120"/>
            <a:ext cx="1240560" cy="476640"/>
          </a:xfrm>
          <a:prstGeom prst="bentConnector2">
            <a:avLst/>
          </a:prstGeom>
          <a:ln w="76320">
            <a:solidFill>
              <a:srgbClr val="ffffff"/>
            </a:solidFill>
            <a:miter/>
          </a:ln>
        </p:spPr>
      </p:cxnSp>
      <p:cxnSp>
        <p:nvCxnSpPr>
          <p:cNvPr id="256" name=""/>
          <p:cNvCxnSpPr>
            <a:stCxn id="217" idx="2"/>
            <a:endCxn id="253" idx="6"/>
          </p:cNvCxnSpPr>
          <p:nvPr/>
        </p:nvCxnSpPr>
        <p:spPr>
          <a:xfrm rot="5400000">
            <a:off x="7086600" y="4799880"/>
            <a:ext cx="1774080" cy="476640"/>
          </a:xfrm>
          <a:prstGeom prst="bentConnector2">
            <a:avLst/>
          </a:prstGeom>
          <a:ln w="76320">
            <a:solidFill>
              <a:srgbClr val="ffffff"/>
            </a:solidFill>
            <a:miter/>
          </a:ln>
        </p:spPr>
      </p:cxnSp>
      <p:sp>
        <p:nvSpPr>
          <p:cNvPr id="257" name=""/>
          <p:cNvSpPr/>
          <p:nvPr/>
        </p:nvSpPr>
        <p:spPr>
          <a:xfrm>
            <a:off x="7830720" y="43243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198440" y="401652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302400" y="2592360"/>
            <a:ext cx="2002680" cy="368280"/>
            <a:chOff x="302400" y="2592360"/>
            <a:chExt cx="2002680" cy="368280"/>
          </a:xfrm>
        </p:grpSpPr>
        <p:sp>
          <p:nvSpPr>
            <p:cNvPr id="244" name=""/>
            <p:cNvSpPr/>
            <p:nvPr/>
          </p:nvSpPr>
          <p:spPr>
            <a:xfrm>
              <a:off x="302400" y="2592360"/>
              <a:ext cx="1814400" cy="368280"/>
            </a:xfrm>
            <a:prstGeom prst="rect">
              <a:avLst/>
            </a:prstGeom>
            <a:solidFill>
              <a:srgbClr val="fe7550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ength_meas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152440" y="2724120"/>
              <a:ext cx="15264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1" name=""/>
          <p:cNvSpPr/>
          <p:nvPr/>
        </p:nvSpPr>
        <p:spPr>
          <a:xfrm>
            <a:off x="2422440" y="1698480"/>
            <a:ext cx="217440" cy="1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2" name=""/>
          <p:cNvCxnSpPr>
            <a:stCxn id="261" idx="2"/>
            <a:endCxn id="260" idx="6"/>
          </p:cNvCxnSpPr>
          <p:nvPr/>
        </p:nvCxnSpPr>
        <p:spPr>
          <a:xfrm rot="5400000">
            <a:off x="1924920" y="2193840"/>
            <a:ext cx="1000800" cy="213480"/>
          </a:xfrm>
          <a:prstGeom prst="bentConnector2">
            <a:avLst/>
          </a:prstGeom>
          <a:ln w="28440">
            <a:solidFill>
              <a:srgbClr val="ffffff"/>
            </a:solidFill>
            <a:miter/>
          </a:ln>
        </p:spPr>
      </p:cxnSp>
      <p:cxnSp>
        <p:nvCxnSpPr>
          <p:cNvPr id="263" name=""/>
          <p:cNvCxnSpPr>
            <a:stCxn id="261" idx="2"/>
            <a:endCxn id="264" idx="6"/>
          </p:cNvCxnSpPr>
          <p:nvPr/>
        </p:nvCxnSpPr>
        <p:spPr>
          <a:xfrm rot="5400000">
            <a:off x="986760" y="3146400"/>
            <a:ext cx="2891520" cy="199440"/>
          </a:xfrm>
          <a:prstGeom prst="bentConnector2">
            <a:avLst/>
          </a:prstGeom>
          <a:ln w="28440">
            <a:solidFill>
              <a:srgbClr val="ffffff"/>
            </a:solidFill>
            <a:miter/>
          </a:ln>
        </p:spPr>
      </p:cxnSp>
      <p:cxnSp>
        <p:nvCxnSpPr>
          <p:cNvPr id="265" name=""/>
          <p:cNvCxnSpPr>
            <a:stCxn id="261" idx="2"/>
            <a:endCxn id="266" idx="6"/>
          </p:cNvCxnSpPr>
          <p:nvPr/>
        </p:nvCxnSpPr>
        <p:spPr>
          <a:xfrm rot="5400000">
            <a:off x="344160" y="3755520"/>
            <a:ext cx="4143600" cy="232560"/>
          </a:xfrm>
          <a:prstGeom prst="bentConnector2">
            <a:avLst/>
          </a:prstGeom>
          <a:ln w="28440">
            <a:solidFill>
              <a:srgbClr val="ffffff"/>
            </a:solidFill>
            <a:miter/>
          </a:ln>
        </p:spPr>
      </p:cxnSp>
      <p:cxnSp>
        <p:nvCxnSpPr>
          <p:cNvPr id="267" name=""/>
          <p:cNvCxnSpPr>
            <a:stCxn id="258" idx="4"/>
            <a:endCxn id="268" idx="0"/>
          </p:cNvCxnSpPr>
          <p:nvPr/>
        </p:nvCxnSpPr>
        <p:spPr>
          <a:xfrm>
            <a:off x="1274400" y="4182840"/>
            <a:ext cx="11880" cy="2862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269" name=""/>
          <p:cNvGrpSpPr/>
          <p:nvPr/>
        </p:nvGrpSpPr>
        <p:grpSpPr>
          <a:xfrm>
            <a:off x="415800" y="4483080"/>
            <a:ext cx="1903680" cy="368280"/>
            <a:chOff x="415800" y="4483080"/>
            <a:chExt cx="1903680" cy="368280"/>
          </a:xfrm>
        </p:grpSpPr>
        <p:sp>
          <p:nvSpPr>
            <p:cNvPr id="268" name=""/>
            <p:cNvSpPr/>
            <p:nvPr/>
          </p:nvSpPr>
          <p:spPr>
            <a:xfrm>
              <a:off x="415800" y="4483080"/>
              <a:ext cx="1739880" cy="368280"/>
            </a:xfrm>
            <a:prstGeom prst="rect">
              <a:avLst/>
            </a:prstGeom>
            <a:solidFill>
              <a:srgbClr val="fe7550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mass_meas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166840" y="4614840"/>
              <a:ext cx="15264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482760" y="5749920"/>
            <a:ext cx="1803240" cy="368280"/>
            <a:chOff x="482760" y="5749920"/>
            <a:chExt cx="1803240" cy="368280"/>
          </a:xfrm>
        </p:grpSpPr>
        <p:sp>
          <p:nvSpPr>
            <p:cNvPr id="271" name=""/>
            <p:cNvSpPr/>
            <p:nvPr/>
          </p:nvSpPr>
          <p:spPr>
            <a:xfrm>
              <a:off x="482760" y="5749920"/>
              <a:ext cx="1625400" cy="368280"/>
            </a:xfrm>
            <a:prstGeom prst="rect">
              <a:avLst/>
            </a:prstGeom>
            <a:solidFill>
              <a:srgbClr val="fe7550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time_meas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133720" y="586764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72" name=""/>
          <p:cNvCxnSpPr>
            <a:stCxn id="271" idx="1"/>
            <a:endCxn id="240" idx="2"/>
          </p:cNvCxnSpPr>
          <p:nvPr/>
        </p:nvCxnSpPr>
        <p:spPr>
          <a:xfrm flipH="1" rot="10800000">
            <a:off x="449640" y="3817080"/>
            <a:ext cx="156600" cy="2131200"/>
          </a:xfrm>
          <a:prstGeom prst="bentConnector3">
            <a:avLst>
              <a:gd name="adj1" fmla="val -137557"/>
            </a:avLst>
          </a:prstGeom>
          <a:ln w="28440">
            <a:solidFill>
              <a:srgbClr val="ffffff"/>
            </a:solidFill>
            <a:miter/>
          </a:ln>
        </p:spPr>
      </p:cxnSp>
      <p:sp>
        <p:nvSpPr>
          <p:cNvPr id="212" name=""/>
          <p:cNvSpPr/>
          <p:nvPr/>
        </p:nvSpPr>
        <p:spPr>
          <a:xfrm>
            <a:off x="6532560" y="1714680"/>
            <a:ext cx="103320" cy="1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Mapping SELECT types: Example (2)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208480" y="2013120"/>
            <a:ext cx="103320" cy="1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27160" y="1100160"/>
            <a:ext cx="8680320" cy="51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ntity definition in EXPR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NTITY measure_with_uni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value_component : 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measure_value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unit_component : 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unit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TYPE measure_value = 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SELECT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(length_measure, mass_measure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ND_TYP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TYPE unit = 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SELECT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(derived_unit, named_unit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ND_TYP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ample entity instance in data s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202 = LENGTH_MEASURE_WITH_UNIT (LENGTH_MEASURE(498.0), #1021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021 = LENGTH_UNIT(      )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pping of Supertype / sub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upertype / subtype entities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Population results in ‘complex entity instances’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wo ‘Mapping Rules’ defined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nternal mapp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xternal mapping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Selection depends on which (STEP Part 21) Conformance Class selected (and stated in HEADER section)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f Conformance Class 1 sel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Use Internal mapping for single inheritance graphs and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xternal mapping for multiple inheritance graph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f Conformance Class 2 sel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Use External mapping for all ‘complex entity instances’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Internal &amp; External Mapping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Internal mapping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only the name of the lowest level subtype shown in physical fil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ttributes appear in order of inherit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.g. #100 = CC (aa, cc);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xternal mapping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ll entities in the inheritance graph named in physical file in alphabetical order of the entity n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ttributes appear with their parent entit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.g. #100 = (AA (aa) BB(bb) CC(cc));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Supertype-subtypes: Example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285840" y="1006200"/>
            <a:ext cx="8572320" cy="524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ntity definition in EXPRES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NTITY named_unit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SUPERTYPE OF (ONE OF (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length_unit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, mass_unit, time_unit)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ANDOR (ONEOF (</a:t>
            </a:r>
            <a:r>
              <a:rPr b="1" lang="en-GB" sz="2000" spc="-1" strike="noStrike">
                <a:solidFill>
                  <a:srgbClr val="66ff33"/>
                </a:solidFill>
                <a:latin typeface="Arial"/>
              </a:rPr>
              <a:t>si_unit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, conversion_based_unit)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dimensions : dimensional_exponents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NTITY </a:t>
            </a:r>
            <a:r>
              <a:rPr b="1" lang="en-GB" sz="2000" spc="-1" strike="noStrike">
                <a:solidFill>
                  <a:srgbClr val="66ff33"/>
                </a:solidFill>
                <a:latin typeface="Arial"/>
              </a:rPr>
              <a:t>si_unit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SUBTYPE OF (named_unit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prefix : OPTIONAL si_prefix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name : si_unit_name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DERIVE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SELF\named_unit.dimensions : dimensional_exponents := dimensions_for_si_unit (SELF.name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342040" y="3637080"/>
            <a:ext cx="35575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NTITY 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length_unit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SUBTYPE OF (named_unit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 flipH="1">
            <a:off x="2063520" y="2492280"/>
            <a:ext cx="1128600" cy="111132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799160" y="2192400"/>
            <a:ext cx="2028600" cy="149868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Internal mapping: Example (1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503640" y="2550960"/>
            <a:ext cx="1664640" cy="398880"/>
            <a:chOff x="503640" y="2550960"/>
            <a:chExt cx="1664640" cy="398880"/>
          </a:xfrm>
        </p:grpSpPr>
        <p:sp>
          <p:nvSpPr>
            <p:cNvPr id="287" name=""/>
            <p:cNvSpPr/>
            <p:nvPr/>
          </p:nvSpPr>
          <p:spPr>
            <a:xfrm>
              <a:off x="1981080" y="26686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503640" y="2550960"/>
              <a:ext cx="14259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length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9" name=""/>
          <p:cNvGrpSpPr/>
          <p:nvPr/>
        </p:nvGrpSpPr>
        <p:grpSpPr>
          <a:xfrm>
            <a:off x="594720" y="3157560"/>
            <a:ext cx="1573560" cy="398880"/>
            <a:chOff x="594720" y="3157560"/>
            <a:chExt cx="1573560" cy="398880"/>
          </a:xfrm>
        </p:grpSpPr>
        <p:sp>
          <p:nvSpPr>
            <p:cNvPr id="290" name=""/>
            <p:cNvSpPr/>
            <p:nvPr/>
          </p:nvSpPr>
          <p:spPr>
            <a:xfrm>
              <a:off x="594720" y="3157560"/>
              <a:ext cx="13420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ass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981080" y="32972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2" name=""/>
          <p:cNvGrpSpPr/>
          <p:nvPr/>
        </p:nvGrpSpPr>
        <p:grpSpPr>
          <a:xfrm>
            <a:off x="712080" y="3719520"/>
            <a:ext cx="1456200" cy="398880"/>
            <a:chOff x="712080" y="3719520"/>
            <a:chExt cx="1456200" cy="398880"/>
          </a:xfrm>
        </p:grpSpPr>
        <p:sp>
          <p:nvSpPr>
            <p:cNvPr id="293" name=""/>
            <p:cNvSpPr/>
            <p:nvPr/>
          </p:nvSpPr>
          <p:spPr>
            <a:xfrm>
              <a:off x="712080" y="3719520"/>
              <a:ext cx="12124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time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81080" y="38307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4427280" y="3719520"/>
            <a:ext cx="28036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version_based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191120" y="386568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7328160" y="3610080"/>
            <a:ext cx="75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 flipH="1">
            <a:off x="7256520" y="3978360"/>
            <a:ext cx="8697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8142120" y="389412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45000" y="134928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1" name=""/>
          <p:cNvCxnSpPr>
            <a:stCxn id="302" idx="3"/>
            <a:endCxn id="300" idx="2"/>
          </p:cNvCxnSpPr>
          <p:nvPr/>
        </p:nvCxnSpPr>
        <p:spPr>
          <a:xfrm>
            <a:off x="3903840" y="1420560"/>
            <a:ext cx="1527840" cy="5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03" name=""/>
          <p:cNvSpPr/>
          <p:nvPr/>
        </p:nvSpPr>
        <p:spPr>
          <a:xfrm>
            <a:off x="4022640" y="1071720"/>
            <a:ext cx="133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623920" y="1208160"/>
            <a:ext cx="28584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mensional_expon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431600" y="2550960"/>
            <a:ext cx="916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i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191120" y="271152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567760" y="2384280"/>
            <a:ext cx="75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8" name=""/>
          <p:cNvGrpSpPr/>
          <p:nvPr/>
        </p:nvGrpSpPr>
        <p:grpSpPr>
          <a:xfrm>
            <a:off x="6438960" y="2516040"/>
            <a:ext cx="1756800" cy="374400"/>
            <a:chOff x="6438960" y="2516040"/>
            <a:chExt cx="1756800" cy="374400"/>
          </a:xfrm>
        </p:grpSpPr>
        <p:sp>
          <p:nvSpPr>
            <p:cNvPr id="309" name=""/>
            <p:cNvSpPr/>
            <p:nvPr/>
          </p:nvSpPr>
          <p:spPr>
            <a:xfrm>
              <a:off x="6438960" y="26683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595920" y="2519280"/>
              <a:ext cx="159984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i_unit_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V="1">
              <a:off x="8097480" y="2516040"/>
              <a:ext cx="0" cy="3744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2" name=""/>
          <p:cNvGrpSpPr/>
          <p:nvPr/>
        </p:nvGrpSpPr>
        <p:grpSpPr>
          <a:xfrm>
            <a:off x="6453360" y="3018960"/>
            <a:ext cx="1339200" cy="374760"/>
            <a:chOff x="6453360" y="3018960"/>
            <a:chExt cx="1339200" cy="374760"/>
          </a:xfrm>
        </p:grpSpPr>
        <p:sp>
          <p:nvSpPr>
            <p:cNvPr id="313" name=""/>
            <p:cNvSpPr/>
            <p:nvPr/>
          </p:nvSpPr>
          <p:spPr>
            <a:xfrm>
              <a:off x="6453360" y="315756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610320" y="3022560"/>
              <a:ext cx="118224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i_prefi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7694640" y="3018960"/>
              <a:ext cx="0" cy="37476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16" name=""/>
          <p:cNvCxnSpPr>
            <a:stCxn id="305" idx="3"/>
            <a:endCxn id="309" idx="2"/>
          </p:cNvCxnSpPr>
          <p:nvPr/>
        </p:nvCxnSpPr>
        <p:spPr>
          <a:xfrm flipV="1">
            <a:off x="5378400" y="2743920"/>
            <a:ext cx="1046880" cy="19800"/>
          </a:xfrm>
          <a:prstGeom prst="straightConnector1">
            <a:avLst/>
          </a:prstGeom>
          <a:ln w="28440">
            <a:solidFill>
              <a:srgbClr val="ffffff"/>
            </a:solidFill>
            <a:miter/>
          </a:ln>
        </p:spPr>
      </p:cxnSp>
      <p:cxnSp>
        <p:nvCxnSpPr>
          <p:cNvPr id="317" name=""/>
          <p:cNvCxnSpPr>
            <a:stCxn id="305" idx="2"/>
            <a:endCxn id="313" idx="2"/>
          </p:cNvCxnSpPr>
          <p:nvPr/>
        </p:nvCxnSpPr>
        <p:spPr>
          <a:xfrm flipH="1" rot="16200000">
            <a:off x="5543280" y="2337840"/>
            <a:ext cx="243720" cy="1548720"/>
          </a:xfrm>
          <a:prstGeom prst="bentConnector2">
            <a:avLst/>
          </a:prstGeom>
          <a:ln w="28440">
            <a:solidFill>
              <a:srgbClr val="ffffff"/>
            </a:solidFill>
            <a:miter/>
          </a:ln>
        </p:spPr>
      </p:cxnSp>
      <p:sp>
        <p:nvSpPr>
          <p:cNvPr id="318" name=""/>
          <p:cNvSpPr/>
          <p:nvPr/>
        </p:nvSpPr>
        <p:spPr>
          <a:xfrm>
            <a:off x="5567760" y="2874960"/>
            <a:ext cx="73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efi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9" name=""/>
          <p:cNvGrpSpPr/>
          <p:nvPr/>
        </p:nvGrpSpPr>
        <p:grpSpPr>
          <a:xfrm>
            <a:off x="2363760" y="1208160"/>
            <a:ext cx="1511280" cy="411120"/>
            <a:chOff x="2363760" y="1208160"/>
            <a:chExt cx="1511280" cy="411120"/>
          </a:xfrm>
        </p:grpSpPr>
        <p:sp>
          <p:nvSpPr>
            <p:cNvPr id="302" name=""/>
            <p:cNvSpPr/>
            <p:nvPr/>
          </p:nvSpPr>
          <p:spPr>
            <a:xfrm>
              <a:off x="2363760" y="1208160"/>
              <a:ext cx="1511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nam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495520" y="1531800"/>
              <a:ext cx="101520" cy="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3578400" y="1531800"/>
              <a:ext cx="101520" cy="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22" name=""/>
          <p:cNvCxnSpPr>
            <a:stCxn id="320" idx="2"/>
            <a:endCxn id="291" idx="6"/>
          </p:cNvCxnSpPr>
          <p:nvPr/>
        </p:nvCxnSpPr>
        <p:spPr>
          <a:xfrm rot="5400000">
            <a:off x="1485360" y="2330280"/>
            <a:ext cx="1772280" cy="349920"/>
          </a:xfrm>
          <a:prstGeom prst="bentConnector2">
            <a:avLst/>
          </a:prstGeom>
          <a:ln w="76320">
            <a:solidFill>
              <a:srgbClr val="ffffff"/>
            </a:solidFill>
            <a:miter/>
          </a:ln>
        </p:spPr>
      </p:cxnSp>
      <p:cxnSp>
        <p:nvCxnSpPr>
          <p:cNvPr id="323" name=""/>
          <p:cNvCxnSpPr>
            <a:stCxn id="320" idx="2"/>
            <a:endCxn id="294" idx="6"/>
          </p:cNvCxnSpPr>
          <p:nvPr/>
        </p:nvCxnSpPr>
        <p:spPr>
          <a:xfrm rot="5400000">
            <a:off x="1218600" y="2596680"/>
            <a:ext cx="2305440" cy="349920"/>
          </a:xfrm>
          <a:prstGeom prst="bentConnector2">
            <a:avLst/>
          </a:prstGeom>
          <a:ln w="76320">
            <a:solidFill>
              <a:srgbClr val="ffffff"/>
            </a:solidFill>
            <a:miter/>
          </a:ln>
        </p:spPr>
      </p:cxnSp>
      <p:cxnSp>
        <p:nvCxnSpPr>
          <p:cNvPr id="324" name=""/>
          <p:cNvCxnSpPr>
            <a:stCxn id="321" idx="2"/>
            <a:endCxn id="296" idx="2"/>
          </p:cNvCxnSpPr>
          <p:nvPr/>
        </p:nvCxnSpPr>
        <p:spPr>
          <a:xfrm flipH="1" rot="16200000">
            <a:off x="2724840" y="2522520"/>
            <a:ext cx="2340360" cy="533880"/>
          </a:xfrm>
          <a:prstGeom prst="bentConnector2">
            <a:avLst/>
          </a:prstGeom>
          <a:ln w="76320">
            <a:solidFill>
              <a:srgbClr val="ffffff"/>
            </a:solidFill>
            <a:miter/>
          </a:ln>
        </p:spPr>
      </p:cxnSp>
      <p:sp>
        <p:nvSpPr>
          <p:cNvPr id="325" name=""/>
          <p:cNvSpPr/>
          <p:nvPr/>
        </p:nvSpPr>
        <p:spPr>
          <a:xfrm>
            <a:off x="2206440" y="223848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679560" y="223848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17520" y="2363760"/>
            <a:ext cx="1922400" cy="723960"/>
          </a:xfrm>
          <a:prstGeom prst="rect">
            <a:avLst/>
          </a:prstGeom>
          <a:noFill/>
          <a:ln w="5724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flipV="1">
            <a:off x="2205000" y="1728720"/>
            <a:ext cx="0" cy="56520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9" name=""/>
          <p:cNvCxnSpPr>
            <a:stCxn id="320" idx="2"/>
            <a:endCxn id="287" idx="6"/>
          </p:cNvCxnSpPr>
          <p:nvPr/>
        </p:nvCxnSpPr>
        <p:spPr>
          <a:xfrm rot="5400000">
            <a:off x="1799640" y="2016000"/>
            <a:ext cx="1143720" cy="349920"/>
          </a:xfrm>
          <a:prstGeom prst="bentConnector2">
            <a:avLst/>
          </a:prstGeom>
          <a:ln w="76320">
            <a:solidFill>
              <a:srgbClr val="ff3300"/>
            </a:solidFill>
            <a:miter/>
          </a:ln>
        </p:spPr>
      </p:cxnSp>
      <p:cxnSp>
        <p:nvCxnSpPr>
          <p:cNvPr id="330" name=""/>
          <p:cNvCxnSpPr>
            <a:stCxn id="321" idx="2"/>
            <a:endCxn id="306" idx="2"/>
          </p:cNvCxnSpPr>
          <p:nvPr/>
        </p:nvCxnSpPr>
        <p:spPr>
          <a:xfrm flipH="1" rot="16200000">
            <a:off x="3301920" y="1945440"/>
            <a:ext cx="1186560" cy="533880"/>
          </a:xfrm>
          <a:prstGeom prst="bentConnector2">
            <a:avLst/>
          </a:prstGeom>
          <a:ln w="76320">
            <a:solidFill>
              <a:srgbClr val="ffffff"/>
            </a:solidFill>
            <a:miter/>
          </a:ln>
        </p:spPr>
      </p:cxnSp>
      <p:sp>
        <p:nvSpPr>
          <p:cNvPr id="331" name=""/>
          <p:cNvSpPr/>
          <p:nvPr/>
        </p:nvSpPr>
        <p:spPr>
          <a:xfrm>
            <a:off x="235080" y="4483080"/>
            <a:ext cx="863892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ample entity instance in data s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/* Length Unit (mm) 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021 = LENGTH_UNIT(#1022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022 = DIMENSIONAL_EXPONENTS (1.0, 0.0, 0.0, 0.0, 0.0, 0.0, 0.0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xternal mapping: Example (1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986280" y="2433600"/>
            <a:ext cx="1604880" cy="723960"/>
          </a:xfrm>
          <a:prstGeom prst="rect">
            <a:avLst/>
          </a:prstGeom>
          <a:noFill/>
          <a:ln w="5724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35080" y="4518000"/>
            <a:ext cx="8638920" cy="152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ample entity inst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/* Length Unit (mm) 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020 = SI_UNIT (*, .MILLI., .METRE.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021 = (LENGTH_UNIT() NAMED_UNIT(*) SI_UNIT(.MILLI., .METRE.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503640" y="2550960"/>
            <a:ext cx="1664640" cy="398880"/>
            <a:chOff x="503640" y="2550960"/>
            <a:chExt cx="1664640" cy="398880"/>
          </a:xfrm>
        </p:grpSpPr>
        <p:sp>
          <p:nvSpPr>
            <p:cNvPr id="336" name=""/>
            <p:cNvSpPr/>
            <p:nvPr/>
          </p:nvSpPr>
          <p:spPr>
            <a:xfrm>
              <a:off x="1981080" y="26686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503640" y="2550960"/>
              <a:ext cx="14259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length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8" name=""/>
          <p:cNvGrpSpPr/>
          <p:nvPr/>
        </p:nvGrpSpPr>
        <p:grpSpPr>
          <a:xfrm>
            <a:off x="594720" y="3157560"/>
            <a:ext cx="1573560" cy="398880"/>
            <a:chOff x="594720" y="3157560"/>
            <a:chExt cx="1573560" cy="398880"/>
          </a:xfrm>
        </p:grpSpPr>
        <p:sp>
          <p:nvSpPr>
            <p:cNvPr id="339" name=""/>
            <p:cNvSpPr/>
            <p:nvPr/>
          </p:nvSpPr>
          <p:spPr>
            <a:xfrm>
              <a:off x="594720" y="3157560"/>
              <a:ext cx="13420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ass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981080" y="32972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1" name=""/>
          <p:cNvGrpSpPr/>
          <p:nvPr/>
        </p:nvGrpSpPr>
        <p:grpSpPr>
          <a:xfrm>
            <a:off x="712080" y="3719520"/>
            <a:ext cx="1456200" cy="398880"/>
            <a:chOff x="712080" y="3719520"/>
            <a:chExt cx="1456200" cy="398880"/>
          </a:xfrm>
        </p:grpSpPr>
        <p:sp>
          <p:nvSpPr>
            <p:cNvPr id="342" name=""/>
            <p:cNvSpPr/>
            <p:nvPr/>
          </p:nvSpPr>
          <p:spPr>
            <a:xfrm>
              <a:off x="712080" y="3719520"/>
              <a:ext cx="12124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time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1981080" y="38307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4" name=""/>
          <p:cNvSpPr/>
          <p:nvPr/>
        </p:nvSpPr>
        <p:spPr>
          <a:xfrm>
            <a:off x="4427280" y="3719520"/>
            <a:ext cx="28036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version_based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191120" y="386568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7328160" y="3610080"/>
            <a:ext cx="75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flipH="1">
            <a:off x="7256520" y="3978360"/>
            <a:ext cx="8697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142120" y="389412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445000" y="134928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0" name=""/>
          <p:cNvCxnSpPr>
            <a:stCxn id="351" idx="3"/>
            <a:endCxn id="349" idx="2"/>
          </p:cNvCxnSpPr>
          <p:nvPr/>
        </p:nvCxnSpPr>
        <p:spPr>
          <a:xfrm>
            <a:off x="3903840" y="1420560"/>
            <a:ext cx="1527840" cy="5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52" name=""/>
          <p:cNvSpPr/>
          <p:nvPr/>
        </p:nvSpPr>
        <p:spPr>
          <a:xfrm>
            <a:off x="4022640" y="1071720"/>
            <a:ext cx="133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623920" y="1208160"/>
            <a:ext cx="28584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mensional_expon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431600" y="2550960"/>
            <a:ext cx="916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i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191120" y="271152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567760" y="2384280"/>
            <a:ext cx="75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7" name=""/>
          <p:cNvGrpSpPr/>
          <p:nvPr/>
        </p:nvGrpSpPr>
        <p:grpSpPr>
          <a:xfrm>
            <a:off x="6438960" y="2516040"/>
            <a:ext cx="1756800" cy="374400"/>
            <a:chOff x="6438960" y="2516040"/>
            <a:chExt cx="1756800" cy="374400"/>
          </a:xfrm>
        </p:grpSpPr>
        <p:sp>
          <p:nvSpPr>
            <p:cNvPr id="358" name=""/>
            <p:cNvSpPr/>
            <p:nvPr/>
          </p:nvSpPr>
          <p:spPr>
            <a:xfrm>
              <a:off x="6438960" y="26683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595920" y="2519280"/>
              <a:ext cx="159984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i_unit_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8097480" y="2516040"/>
              <a:ext cx="0" cy="3744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1" name=""/>
          <p:cNvGrpSpPr/>
          <p:nvPr/>
        </p:nvGrpSpPr>
        <p:grpSpPr>
          <a:xfrm>
            <a:off x="6453360" y="3018960"/>
            <a:ext cx="1339200" cy="374760"/>
            <a:chOff x="6453360" y="3018960"/>
            <a:chExt cx="1339200" cy="374760"/>
          </a:xfrm>
        </p:grpSpPr>
        <p:sp>
          <p:nvSpPr>
            <p:cNvPr id="362" name=""/>
            <p:cNvSpPr/>
            <p:nvPr/>
          </p:nvSpPr>
          <p:spPr>
            <a:xfrm>
              <a:off x="6453360" y="315756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6610320" y="3022560"/>
              <a:ext cx="118224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i_prefi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7694640" y="3018960"/>
              <a:ext cx="0" cy="37476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65" name=""/>
          <p:cNvCxnSpPr>
            <a:stCxn id="354" idx="3"/>
            <a:endCxn id="358" idx="2"/>
          </p:cNvCxnSpPr>
          <p:nvPr/>
        </p:nvCxnSpPr>
        <p:spPr>
          <a:xfrm flipV="1">
            <a:off x="5378400" y="2743920"/>
            <a:ext cx="1046880" cy="19800"/>
          </a:xfrm>
          <a:prstGeom prst="straightConnector1">
            <a:avLst/>
          </a:prstGeom>
          <a:ln w="28440">
            <a:solidFill>
              <a:srgbClr val="ffffff"/>
            </a:solidFill>
            <a:miter/>
          </a:ln>
        </p:spPr>
      </p:cxnSp>
      <p:cxnSp>
        <p:nvCxnSpPr>
          <p:cNvPr id="366" name=""/>
          <p:cNvCxnSpPr>
            <a:stCxn id="354" idx="2"/>
            <a:endCxn id="362" idx="2"/>
          </p:cNvCxnSpPr>
          <p:nvPr/>
        </p:nvCxnSpPr>
        <p:spPr>
          <a:xfrm flipH="1" rot="16200000">
            <a:off x="5543280" y="2337840"/>
            <a:ext cx="243720" cy="1548720"/>
          </a:xfrm>
          <a:prstGeom prst="bentConnector2">
            <a:avLst/>
          </a:prstGeom>
          <a:ln w="28440">
            <a:solidFill>
              <a:srgbClr val="ffffff"/>
            </a:solidFill>
            <a:miter/>
          </a:ln>
        </p:spPr>
      </p:cxnSp>
      <p:sp>
        <p:nvSpPr>
          <p:cNvPr id="367" name=""/>
          <p:cNvSpPr/>
          <p:nvPr/>
        </p:nvSpPr>
        <p:spPr>
          <a:xfrm>
            <a:off x="5567760" y="2874960"/>
            <a:ext cx="73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efi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8" name=""/>
          <p:cNvGrpSpPr/>
          <p:nvPr/>
        </p:nvGrpSpPr>
        <p:grpSpPr>
          <a:xfrm>
            <a:off x="2363760" y="1208160"/>
            <a:ext cx="1511280" cy="411120"/>
            <a:chOff x="2363760" y="1208160"/>
            <a:chExt cx="1511280" cy="411120"/>
          </a:xfrm>
        </p:grpSpPr>
        <p:sp>
          <p:nvSpPr>
            <p:cNvPr id="351" name=""/>
            <p:cNvSpPr/>
            <p:nvPr/>
          </p:nvSpPr>
          <p:spPr>
            <a:xfrm>
              <a:off x="2363760" y="1208160"/>
              <a:ext cx="1511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nam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2495520" y="1531800"/>
              <a:ext cx="101520" cy="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578400" y="1531800"/>
              <a:ext cx="101520" cy="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71" name=""/>
          <p:cNvCxnSpPr>
            <a:stCxn id="369" idx="2"/>
            <a:endCxn id="340" idx="6"/>
          </p:cNvCxnSpPr>
          <p:nvPr/>
        </p:nvCxnSpPr>
        <p:spPr>
          <a:xfrm rot="5400000">
            <a:off x="1485360" y="2330280"/>
            <a:ext cx="1772280" cy="349920"/>
          </a:xfrm>
          <a:prstGeom prst="bentConnector2">
            <a:avLst/>
          </a:prstGeom>
          <a:ln w="76320">
            <a:solidFill>
              <a:srgbClr val="ffffff"/>
            </a:solidFill>
            <a:miter/>
          </a:ln>
        </p:spPr>
      </p:cxnSp>
      <p:cxnSp>
        <p:nvCxnSpPr>
          <p:cNvPr id="372" name=""/>
          <p:cNvCxnSpPr>
            <a:stCxn id="369" idx="2"/>
            <a:endCxn id="343" idx="6"/>
          </p:cNvCxnSpPr>
          <p:nvPr/>
        </p:nvCxnSpPr>
        <p:spPr>
          <a:xfrm rot="5400000">
            <a:off x="1218600" y="2596680"/>
            <a:ext cx="2305440" cy="349920"/>
          </a:xfrm>
          <a:prstGeom prst="bentConnector2">
            <a:avLst/>
          </a:prstGeom>
          <a:ln w="76320">
            <a:solidFill>
              <a:srgbClr val="ffffff"/>
            </a:solidFill>
            <a:miter/>
          </a:ln>
        </p:spPr>
      </p:cxnSp>
      <p:cxnSp>
        <p:nvCxnSpPr>
          <p:cNvPr id="373" name=""/>
          <p:cNvCxnSpPr>
            <a:stCxn id="370" idx="2"/>
            <a:endCxn id="345" idx="2"/>
          </p:cNvCxnSpPr>
          <p:nvPr/>
        </p:nvCxnSpPr>
        <p:spPr>
          <a:xfrm flipH="1" rot="16200000">
            <a:off x="2724840" y="2522520"/>
            <a:ext cx="2340360" cy="533880"/>
          </a:xfrm>
          <a:prstGeom prst="bentConnector2">
            <a:avLst/>
          </a:prstGeom>
          <a:ln w="76320">
            <a:solidFill>
              <a:srgbClr val="ffffff"/>
            </a:solidFill>
            <a:miter/>
          </a:ln>
        </p:spPr>
      </p:cxnSp>
      <p:sp>
        <p:nvSpPr>
          <p:cNvPr id="374" name=""/>
          <p:cNvSpPr/>
          <p:nvPr/>
        </p:nvSpPr>
        <p:spPr>
          <a:xfrm>
            <a:off x="2206440" y="223848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679560" y="223848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17520" y="2363760"/>
            <a:ext cx="1922400" cy="723960"/>
          </a:xfrm>
          <a:prstGeom prst="rect">
            <a:avLst/>
          </a:prstGeom>
          <a:noFill/>
          <a:ln w="5724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 flipV="1">
            <a:off x="2205000" y="1728720"/>
            <a:ext cx="0" cy="56520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8" name=""/>
          <p:cNvCxnSpPr>
            <a:stCxn id="369" idx="2"/>
            <a:endCxn id="336" idx="6"/>
          </p:cNvCxnSpPr>
          <p:nvPr/>
        </p:nvCxnSpPr>
        <p:spPr>
          <a:xfrm rot="5400000">
            <a:off x="1799640" y="2016000"/>
            <a:ext cx="1143720" cy="349920"/>
          </a:xfrm>
          <a:prstGeom prst="bentConnector2">
            <a:avLst/>
          </a:prstGeom>
          <a:ln w="76320">
            <a:solidFill>
              <a:srgbClr val="ff3300"/>
            </a:solidFill>
            <a:miter/>
          </a:ln>
        </p:spPr>
      </p:cxnSp>
      <p:cxnSp>
        <p:nvCxnSpPr>
          <p:cNvPr id="379" name=""/>
          <p:cNvCxnSpPr>
            <a:stCxn id="370" idx="2"/>
            <a:endCxn id="355" idx="2"/>
          </p:cNvCxnSpPr>
          <p:nvPr/>
        </p:nvCxnSpPr>
        <p:spPr>
          <a:xfrm flipH="1" rot="16200000">
            <a:off x="3301920" y="1945440"/>
            <a:ext cx="1186560" cy="533880"/>
          </a:xfrm>
          <a:prstGeom prst="bentConnector2">
            <a:avLst/>
          </a:prstGeom>
          <a:ln w="76320">
            <a:solidFill>
              <a:srgbClr val="ff3300"/>
            </a:solidFill>
            <a:miter/>
          </a:ln>
        </p:spPr>
      </p:cxnSp>
      <p:sp>
        <p:nvSpPr>
          <p:cNvPr id="380" name=""/>
          <p:cNvSpPr/>
          <p:nvPr/>
        </p:nvSpPr>
        <p:spPr>
          <a:xfrm flipV="1">
            <a:off x="3968640" y="1728720"/>
            <a:ext cx="0" cy="56520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2576160" y="4456080"/>
            <a:ext cx="6323760" cy="1239840"/>
            <a:chOff x="2576160" y="4456080"/>
            <a:chExt cx="6323760" cy="1239840"/>
          </a:xfrm>
        </p:grpSpPr>
        <p:sp>
          <p:nvSpPr>
            <p:cNvPr id="382" name=""/>
            <p:cNvSpPr/>
            <p:nvPr/>
          </p:nvSpPr>
          <p:spPr>
            <a:xfrm>
              <a:off x="5941080" y="4456080"/>
              <a:ext cx="295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ff00"/>
                  </a:solidFill>
                  <a:latin typeface="Arial"/>
                </a:rPr>
                <a:t>Redefined attribu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 flipH="1">
              <a:off x="5238720" y="4832280"/>
              <a:ext cx="812880" cy="86364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 flipH="1">
              <a:off x="2576160" y="4689360"/>
              <a:ext cx="3422520" cy="72576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pull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4629240" y="1533600"/>
            <a:ext cx="2743200" cy="2668680"/>
            <a:chOff x="4629240" y="1533600"/>
            <a:chExt cx="2743200" cy="2668680"/>
          </a:xfrm>
        </p:grpSpPr>
        <p:sp>
          <p:nvSpPr>
            <p:cNvPr id="107" name=""/>
            <p:cNvSpPr/>
            <p:nvPr/>
          </p:nvSpPr>
          <p:spPr>
            <a:xfrm>
              <a:off x="4629240" y="153360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0" y="351"/>
                  </a:moveTo>
                  <a:lnTo>
                    <a:pt x="0" y="0"/>
                  </a:lnTo>
                  <a:lnTo>
                    <a:pt x="1726" y="0"/>
                  </a:lnTo>
                  <a:lnTo>
                    <a:pt x="1728" y="1343"/>
                  </a:lnTo>
                  <a:lnTo>
                    <a:pt x="1578" y="1343"/>
                  </a:lnTo>
                  <a:lnTo>
                    <a:pt x="1572" y="1355"/>
                  </a:lnTo>
                  <a:lnTo>
                    <a:pt x="1567" y="1371"/>
                  </a:lnTo>
                  <a:lnTo>
                    <a:pt x="1567" y="1385"/>
                  </a:lnTo>
                  <a:lnTo>
                    <a:pt x="1569" y="1401"/>
                  </a:lnTo>
                  <a:lnTo>
                    <a:pt x="1575" y="1422"/>
                  </a:lnTo>
                  <a:lnTo>
                    <a:pt x="1581" y="1449"/>
                  </a:lnTo>
                  <a:lnTo>
                    <a:pt x="1587" y="1467"/>
                  </a:lnTo>
                  <a:lnTo>
                    <a:pt x="1591" y="1490"/>
                  </a:lnTo>
                  <a:lnTo>
                    <a:pt x="1594" y="1511"/>
                  </a:lnTo>
                  <a:lnTo>
                    <a:pt x="1594" y="1532"/>
                  </a:lnTo>
                  <a:lnTo>
                    <a:pt x="1591" y="1551"/>
                  </a:lnTo>
                  <a:lnTo>
                    <a:pt x="1587" y="1572"/>
                  </a:lnTo>
                  <a:lnTo>
                    <a:pt x="1579" y="1591"/>
                  </a:lnTo>
                  <a:lnTo>
                    <a:pt x="1567" y="1606"/>
                  </a:lnTo>
                  <a:lnTo>
                    <a:pt x="1551" y="1624"/>
                  </a:lnTo>
                  <a:lnTo>
                    <a:pt x="1534" y="1638"/>
                  </a:lnTo>
                  <a:lnTo>
                    <a:pt x="1519" y="1651"/>
                  </a:lnTo>
                  <a:lnTo>
                    <a:pt x="1501" y="1662"/>
                  </a:lnTo>
                  <a:lnTo>
                    <a:pt x="1480" y="1669"/>
                  </a:lnTo>
                  <a:lnTo>
                    <a:pt x="1455" y="1677"/>
                  </a:lnTo>
                  <a:lnTo>
                    <a:pt x="1431" y="1680"/>
                  </a:lnTo>
                  <a:lnTo>
                    <a:pt x="1410" y="1681"/>
                  </a:lnTo>
                  <a:lnTo>
                    <a:pt x="1387" y="1681"/>
                  </a:lnTo>
                  <a:lnTo>
                    <a:pt x="1367" y="1680"/>
                  </a:lnTo>
                  <a:lnTo>
                    <a:pt x="1350" y="1677"/>
                  </a:lnTo>
                  <a:lnTo>
                    <a:pt x="1331" y="1671"/>
                  </a:lnTo>
                  <a:lnTo>
                    <a:pt x="1311" y="1665"/>
                  </a:lnTo>
                  <a:lnTo>
                    <a:pt x="1296" y="1656"/>
                  </a:lnTo>
                  <a:lnTo>
                    <a:pt x="1280" y="1644"/>
                  </a:lnTo>
                  <a:lnTo>
                    <a:pt x="1265" y="1629"/>
                  </a:lnTo>
                  <a:lnTo>
                    <a:pt x="1250" y="1612"/>
                  </a:lnTo>
                  <a:lnTo>
                    <a:pt x="1236" y="1596"/>
                  </a:lnTo>
                  <a:lnTo>
                    <a:pt x="1226" y="1578"/>
                  </a:lnTo>
                  <a:lnTo>
                    <a:pt x="1218" y="1556"/>
                  </a:lnTo>
                  <a:lnTo>
                    <a:pt x="1212" y="1530"/>
                  </a:lnTo>
                  <a:lnTo>
                    <a:pt x="1212" y="1506"/>
                  </a:lnTo>
                  <a:lnTo>
                    <a:pt x="1218" y="1482"/>
                  </a:lnTo>
                  <a:lnTo>
                    <a:pt x="1224" y="1458"/>
                  </a:lnTo>
                  <a:lnTo>
                    <a:pt x="1230" y="1434"/>
                  </a:lnTo>
                  <a:lnTo>
                    <a:pt x="1238" y="1407"/>
                  </a:lnTo>
                  <a:lnTo>
                    <a:pt x="1241" y="1386"/>
                  </a:lnTo>
                  <a:lnTo>
                    <a:pt x="1241" y="1374"/>
                  </a:lnTo>
                  <a:lnTo>
                    <a:pt x="1239" y="1364"/>
                  </a:lnTo>
                  <a:lnTo>
                    <a:pt x="1235" y="1352"/>
                  </a:lnTo>
                  <a:lnTo>
                    <a:pt x="947" y="1352"/>
                  </a:lnTo>
                  <a:lnTo>
                    <a:pt x="952" y="1301"/>
                  </a:lnTo>
                  <a:lnTo>
                    <a:pt x="950" y="1272"/>
                  </a:lnTo>
                  <a:lnTo>
                    <a:pt x="947" y="1245"/>
                  </a:lnTo>
                  <a:lnTo>
                    <a:pt x="944" y="1220"/>
                  </a:lnTo>
                  <a:lnTo>
                    <a:pt x="940" y="1203"/>
                  </a:lnTo>
                  <a:lnTo>
                    <a:pt x="932" y="1188"/>
                  </a:lnTo>
                  <a:lnTo>
                    <a:pt x="923" y="1175"/>
                  </a:lnTo>
                  <a:lnTo>
                    <a:pt x="908" y="1163"/>
                  </a:lnTo>
                  <a:lnTo>
                    <a:pt x="892" y="1153"/>
                  </a:lnTo>
                  <a:lnTo>
                    <a:pt x="875" y="1147"/>
                  </a:lnTo>
                  <a:lnTo>
                    <a:pt x="860" y="1144"/>
                  </a:lnTo>
                  <a:lnTo>
                    <a:pt x="835" y="1142"/>
                  </a:lnTo>
                  <a:lnTo>
                    <a:pt x="805" y="1142"/>
                  </a:lnTo>
                  <a:lnTo>
                    <a:pt x="776" y="1145"/>
                  </a:lnTo>
                  <a:lnTo>
                    <a:pt x="745" y="1147"/>
                  </a:lnTo>
                  <a:lnTo>
                    <a:pt x="721" y="1150"/>
                  </a:lnTo>
                  <a:lnTo>
                    <a:pt x="689" y="1151"/>
                  </a:lnTo>
                  <a:lnTo>
                    <a:pt x="664" y="1150"/>
                  </a:lnTo>
                  <a:lnTo>
                    <a:pt x="641" y="1147"/>
                  </a:lnTo>
                  <a:lnTo>
                    <a:pt x="607" y="1139"/>
                  </a:lnTo>
                  <a:lnTo>
                    <a:pt x="585" y="1129"/>
                  </a:lnTo>
                  <a:lnTo>
                    <a:pt x="564" y="1114"/>
                  </a:lnTo>
                  <a:lnTo>
                    <a:pt x="550" y="1097"/>
                  </a:lnTo>
                  <a:lnTo>
                    <a:pt x="538" y="1079"/>
                  </a:lnTo>
                  <a:lnTo>
                    <a:pt x="529" y="1057"/>
                  </a:lnTo>
                  <a:lnTo>
                    <a:pt x="528" y="1033"/>
                  </a:lnTo>
                  <a:lnTo>
                    <a:pt x="528" y="1003"/>
                  </a:lnTo>
                  <a:lnTo>
                    <a:pt x="529" y="980"/>
                  </a:lnTo>
                  <a:lnTo>
                    <a:pt x="528" y="958"/>
                  </a:lnTo>
                  <a:lnTo>
                    <a:pt x="522" y="932"/>
                  </a:lnTo>
                  <a:lnTo>
                    <a:pt x="517" y="917"/>
                  </a:lnTo>
                  <a:lnTo>
                    <a:pt x="510" y="902"/>
                  </a:lnTo>
                  <a:lnTo>
                    <a:pt x="501" y="892"/>
                  </a:lnTo>
                  <a:lnTo>
                    <a:pt x="492" y="883"/>
                  </a:lnTo>
                  <a:lnTo>
                    <a:pt x="472" y="874"/>
                  </a:lnTo>
                  <a:lnTo>
                    <a:pt x="450" y="863"/>
                  </a:lnTo>
                  <a:lnTo>
                    <a:pt x="424" y="856"/>
                  </a:lnTo>
                  <a:lnTo>
                    <a:pt x="394" y="848"/>
                  </a:lnTo>
                  <a:lnTo>
                    <a:pt x="364" y="842"/>
                  </a:lnTo>
                  <a:lnTo>
                    <a:pt x="333" y="838"/>
                  </a:lnTo>
                  <a:lnTo>
                    <a:pt x="310" y="830"/>
                  </a:lnTo>
                  <a:lnTo>
                    <a:pt x="286" y="823"/>
                  </a:lnTo>
                  <a:lnTo>
                    <a:pt x="262" y="814"/>
                  </a:lnTo>
                  <a:lnTo>
                    <a:pt x="246" y="800"/>
                  </a:lnTo>
                  <a:lnTo>
                    <a:pt x="226" y="784"/>
                  </a:lnTo>
                  <a:lnTo>
                    <a:pt x="213" y="769"/>
                  </a:lnTo>
                  <a:lnTo>
                    <a:pt x="201" y="751"/>
                  </a:lnTo>
                  <a:lnTo>
                    <a:pt x="192" y="730"/>
                  </a:lnTo>
                  <a:lnTo>
                    <a:pt x="189" y="708"/>
                  </a:lnTo>
                  <a:lnTo>
                    <a:pt x="189" y="687"/>
                  </a:lnTo>
                  <a:lnTo>
                    <a:pt x="194" y="667"/>
                  </a:lnTo>
                  <a:lnTo>
                    <a:pt x="201" y="639"/>
                  </a:lnTo>
                  <a:lnTo>
                    <a:pt x="208" y="610"/>
                  </a:lnTo>
                  <a:lnTo>
                    <a:pt x="211" y="585"/>
                  </a:lnTo>
                  <a:lnTo>
                    <a:pt x="217" y="559"/>
                  </a:lnTo>
                  <a:lnTo>
                    <a:pt x="220" y="534"/>
                  </a:lnTo>
                  <a:lnTo>
                    <a:pt x="217" y="507"/>
                  </a:lnTo>
                  <a:lnTo>
                    <a:pt x="211" y="483"/>
                  </a:lnTo>
                  <a:lnTo>
                    <a:pt x="202" y="459"/>
                  </a:lnTo>
                  <a:lnTo>
                    <a:pt x="191" y="436"/>
                  </a:lnTo>
                  <a:lnTo>
                    <a:pt x="177" y="418"/>
                  </a:lnTo>
                  <a:lnTo>
                    <a:pt x="170" y="408"/>
                  </a:lnTo>
                  <a:lnTo>
                    <a:pt x="156" y="394"/>
                  </a:lnTo>
                  <a:lnTo>
                    <a:pt x="143" y="383"/>
                  </a:lnTo>
                  <a:lnTo>
                    <a:pt x="129" y="374"/>
                  </a:lnTo>
                  <a:lnTo>
                    <a:pt x="111" y="365"/>
                  </a:lnTo>
                  <a:lnTo>
                    <a:pt x="93" y="359"/>
                  </a:lnTo>
                  <a:lnTo>
                    <a:pt x="71" y="353"/>
                  </a:lnTo>
                  <a:lnTo>
                    <a:pt x="45" y="351"/>
                  </a:lnTo>
                  <a:lnTo>
                    <a:pt x="23" y="351"/>
                  </a:lnTo>
                  <a:lnTo>
                    <a:pt x="0" y="351"/>
                  </a:lnTo>
                  <a:close/>
                </a:path>
              </a:pathLst>
            </a:custGeom>
            <a:solidFill>
              <a:srgbClr val="cc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946040" y="1619280"/>
              <a:ext cx="2386080" cy="16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21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Physical Fil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Forma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6480" y="2981160"/>
            <a:ext cx="8518680" cy="326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65200" indent="-56520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Requirements of CIS/2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565200" indent="-56520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The Exchange Structure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565200" indent="-56520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The Special Token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565200" indent="-56520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Header &amp; Data Section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565200" indent="-56520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Mapping from EXPRES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Redefined attribut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spcAft>
                <a:spcPts val="1100"/>
              </a:spcAft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upertype attributes redefined in a subtype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spcAft>
                <a:spcPts val="1100"/>
              </a:spcAft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f a subtype entity redefines an attribute of its supertype using the DERIVE clause, that attribute in the supertype shall be encoded with an asterisk “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*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”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235080" y="4518000"/>
            <a:ext cx="8638920" cy="152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ample entity inst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/* Length Unit (mm) 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020 = SI_UNIT (*, .MILLI., .METRE.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021 = (LENGTH_UNIT() NAMED_UNIT(*) SI_UNIT(.MILLI., .METRE.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8" name=""/>
          <p:cNvGrpSpPr/>
          <p:nvPr/>
        </p:nvGrpSpPr>
        <p:grpSpPr>
          <a:xfrm>
            <a:off x="2576160" y="4456080"/>
            <a:ext cx="6323760" cy="1239840"/>
            <a:chOff x="2576160" y="4456080"/>
            <a:chExt cx="6323760" cy="1239840"/>
          </a:xfrm>
        </p:grpSpPr>
        <p:sp>
          <p:nvSpPr>
            <p:cNvPr id="389" name=""/>
            <p:cNvSpPr/>
            <p:nvPr/>
          </p:nvSpPr>
          <p:spPr>
            <a:xfrm>
              <a:off x="5941080" y="4456080"/>
              <a:ext cx="295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ff00"/>
                  </a:solidFill>
                  <a:latin typeface="Arial"/>
                </a:rPr>
                <a:t>Redefined attribu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flipH="1">
              <a:off x="5238720" y="4832280"/>
              <a:ext cx="812880" cy="86364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 flipH="1">
              <a:off x="2576160" y="4689360"/>
              <a:ext cx="3422520" cy="72576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3479760" y="3395520"/>
            <a:ext cx="233856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3090960" y="2085840"/>
            <a:ext cx="3054240" cy="3346560"/>
            <a:chOff x="3090960" y="2085840"/>
            <a:chExt cx="3054240" cy="3346560"/>
          </a:xfrm>
        </p:grpSpPr>
        <p:sp>
          <p:nvSpPr>
            <p:cNvPr id="394" name=""/>
            <p:cNvSpPr/>
            <p:nvPr/>
          </p:nvSpPr>
          <p:spPr>
            <a:xfrm>
              <a:off x="3090960" y="2085840"/>
              <a:ext cx="3054240" cy="3346560"/>
            </a:xfrm>
            <a:custGeom>
              <a:avLst/>
              <a:gdLst/>
              <a:ahLst/>
              <a:rect l="l" t="t" r="r" b="b"/>
              <a:pathLst>
                <a:path w="1924" h="2108">
                  <a:moveTo>
                    <a:pt x="733" y="440"/>
                  </a:moveTo>
                  <a:lnTo>
                    <a:pt x="752" y="417"/>
                  </a:lnTo>
                  <a:lnTo>
                    <a:pt x="766" y="394"/>
                  </a:lnTo>
                  <a:lnTo>
                    <a:pt x="773" y="369"/>
                  </a:lnTo>
                  <a:lnTo>
                    <a:pt x="773" y="336"/>
                  </a:lnTo>
                  <a:lnTo>
                    <a:pt x="764" y="298"/>
                  </a:lnTo>
                  <a:lnTo>
                    <a:pt x="757" y="267"/>
                  </a:lnTo>
                  <a:lnTo>
                    <a:pt x="746" y="228"/>
                  </a:lnTo>
                  <a:lnTo>
                    <a:pt x="742" y="186"/>
                  </a:lnTo>
                  <a:lnTo>
                    <a:pt x="746" y="160"/>
                  </a:lnTo>
                  <a:lnTo>
                    <a:pt x="754" y="129"/>
                  </a:lnTo>
                  <a:lnTo>
                    <a:pt x="769" y="96"/>
                  </a:lnTo>
                  <a:lnTo>
                    <a:pt x="789" y="64"/>
                  </a:lnTo>
                  <a:lnTo>
                    <a:pt x="816" y="39"/>
                  </a:lnTo>
                  <a:lnTo>
                    <a:pt x="840" y="20"/>
                  </a:lnTo>
                  <a:lnTo>
                    <a:pt x="873" y="8"/>
                  </a:lnTo>
                  <a:lnTo>
                    <a:pt x="912" y="2"/>
                  </a:lnTo>
                  <a:lnTo>
                    <a:pt x="954" y="0"/>
                  </a:lnTo>
                  <a:lnTo>
                    <a:pt x="1011" y="0"/>
                  </a:lnTo>
                  <a:lnTo>
                    <a:pt x="1056" y="5"/>
                  </a:lnTo>
                  <a:lnTo>
                    <a:pt x="1082" y="14"/>
                  </a:lnTo>
                  <a:lnTo>
                    <a:pt x="1101" y="26"/>
                  </a:lnTo>
                  <a:lnTo>
                    <a:pt x="1122" y="39"/>
                  </a:lnTo>
                  <a:lnTo>
                    <a:pt x="1143" y="60"/>
                  </a:lnTo>
                  <a:lnTo>
                    <a:pt x="1163" y="87"/>
                  </a:lnTo>
                  <a:lnTo>
                    <a:pt x="1177" y="111"/>
                  </a:lnTo>
                  <a:lnTo>
                    <a:pt x="1185" y="132"/>
                  </a:lnTo>
                  <a:lnTo>
                    <a:pt x="1191" y="168"/>
                  </a:lnTo>
                  <a:lnTo>
                    <a:pt x="1191" y="199"/>
                  </a:lnTo>
                  <a:lnTo>
                    <a:pt x="1186" y="231"/>
                  </a:lnTo>
                  <a:lnTo>
                    <a:pt x="1180" y="255"/>
                  </a:lnTo>
                  <a:lnTo>
                    <a:pt x="1173" y="294"/>
                  </a:lnTo>
                  <a:lnTo>
                    <a:pt x="1163" y="334"/>
                  </a:lnTo>
                  <a:lnTo>
                    <a:pt x="1158" y="360"/>
                  </a:lnTo>
                  <a:lnTo>
                    <a:pt x="1166" y="385"/>
                  </a:lnTo>
                  <a:lnTo>
                    <a:pt x="1174" y="403"/>
                  </a:lnTo>
                  <a:lnTo>
                    <a:pt x="1191" y="427"/>
                  </a:lnTo>
                  <a:lnTo>
                    <a:pt x="1215" y="446"/>
                  </a:lnTo>
                  <a:lnTo>
                    <a:pt x="1237" y="463"/>
                  </a:lnTo>
                  <a:lnTo>
                    <a:pt x="1270" y="476"/>
                  </a:lnTo>
                  <a:lnTo>
                    <a:pt x="1303" y="485"/>
                  </a:lnTo>
                  <a:lnTo>
                    <a:pt x="1335" y="493"/>
                  </a:lnTo>
                  <a:lnTo>
                    <a:pt x="1368" y="497"/>
                  </a:lnTo>
                  <a:lnTo>
                    <a:pt x="1402" y="506"/>
                  </a:lnTo>
                  <a:lnTo>
                    <a:pt x="1429" y="515"/>
                  </a:lnTo>
                  <a:lnTo>
                    <a:pt x="1450" y="526"/>
                  </a:lnTo>
                  <a:lnTo>
                    <a:pt x="1467" y="538"/>
                  </a:lnTo>
                  <a:lnTo>
                    <a:pt x="1479" y="551"/>
                  </a:lnTo>
                  <a:lnTo>
                    <a:pt x="1488" y="568"/>
                  </a:lnTo>
                  <a:lnTo>
                    <a:pt x="1495" y="587"/>
                  </a:lnTo>
                  <a:lnTo>
                    <a:pt x="1498" y="605"/>
                  </a:lnTo>
                  <a:lnTo>
                    <a:pt x="1501" y="622"/>
                  </a:lnTo>
                  <a:lnTo>
                    <a:pt x="1501" y="644"/>
                  </a:lnTo>
                  <a:lnTo>
                    <a:pt x="1498" y="670"/>
                  </a:lnTo>
                  <a:lnTo>
                    <a:pt x="1498" y="689"/>
                  </a:lnTo>
                  <a:lnTo>
                    <a:pt x="1503" y="713"/>
                  </a:lnTo>
                  <a:lnTo>
                    <a:pt x="1513" y="734"/>
                  </a:lnTo>
                  <a:lnTo>
                    <a:pt x="1525" y="752"/>
                  </a:lnTo>
                  <a:lnTo>
                    <a:pt x="1540" y="766"/>
                  </a:lnTo>
                  <a:lnTo>
                    <a:pt x="1559" y="781"/>
                  </a:lnTo>
                  <a:lnTo>
                    <a:pt x="1579" y="790"/>
                  </a:lnTo>
                  <a:lnTo>
                    <a:pt x="1609" y="796"/>
                  </a:lnTo>
                  <a:lnTo>
                    <a:pt x="1634" y="799"/>
                  </a:lnTo>
                  <a:lnTo>
                    <a:pt x="1658" y="800"/>
                  </a:lnTo>
                  <a:lnTo>
                    <a:pt x="1685" y="799"/>
                  </a:lnTo>
                  <a:lnTo>
                    <a:pt x="1718" y="796"/>
                  </a:lnTo>
                  <a:lnTo>
                    <a:pt x="1744" y="794"/>
                  </a:lnTo>
                  <a:lnTo>
                    <a:pt x="1769" y="791"/>
                  </a:lnTo>
                  <a:lnTo>
                    <a:pt x="1793" y="790"/>
                  </a:lnTo>
                  <a:lnTo>
                    <a:pt x="1822" y="791"/>
                  </a:lnTo>
                  <a:lnTo>
                    <a:pt x="1837" y="794"/>
                  </a:lnTo>
                  <a:lnTo>
                    <a:pt x="1855" y="799"/>
                  </a:lnTo>
                  <a:lnTo>
                    <a:pt x="1871" y="808"/>
                  </a:lnTo>
                  <a:lnTo>
                    <a:pt x="1889" y="821"/>
                  </a:lnTo>
                  <a:lnTo>
                    <a:pt x="1903" y="836"/>
                  </a:lnTo>
                  <a:lnTo>
                    <a:pt x="1913" y="858"/>
                  </a:lnTo>
                  <a:lnTo>
                    <a:pt x="1918" y="878"/>
                  </a:lnTo>
                  <a:lnTo>
                    <a:pt x="1921" y="902"/>
                  </a:lnTo>
                  <a:lnTo>
                    <a:pt x="1924" y="945"/>
                  </a:lnTo>
                  <a:lnTo>
                    <a:pt x="1922" y="996"/>
                  </a:lnTo>
                  <a:lnTo>
                    <a:pt x="1924" y="1050"/>
                  </a:lnTo>
                  <a:lnTo>
                    <a:pt x="1919" y="1113"/>
                  </a:lnTo>
                  <a:lnTo>
                    <a:pt x="1915" y="1157"/>
                  </a:lnTo>
                  <a:lnTo>
                    <a:pt x="1910" y="1191"/>
                  </a:lnTo>
                  <a:lnTo>
                    <a:pt x="1903" y="1211"/>
                  </a:lnTo>
                  <a:lnTo>
                    <a:pt x="1891" y="1229"/>
                  </a:lnTo>
                  <a:lnTo>
                    <a:pt x="1877" y="1240"/>
                  </a:lnTo>
                  <a:lnTo>
                    <a:pt x="1859" y="1251"/>
                  </a:lnTo>
                  <a:lnTo>
                    <a:pt x="1838" y="1257"/>
                  </a:lnTo>
                  <a:lnTo>
                    <a:pt x="1820" y="1261"/>
                  </a:lnTo>
                  <a:lnTo>
                    <a:pt x="1783" y="1263"/>
                  </a:lnTo>
                  <a:lnTo>
                    <a:pt x="1750" y="1261"/>
                  </a:lnTo>
                  <a:lnTo>
                    <a:pt x="1723" y="1257"/>
                  </a:lnTo>
                  <a:lnTo>
                    <a:pt x="1699" y="1255"/>
                  </a:lnTo>
                  <a:lnTo>
                    <a:pt x="1672" y="1254"/>
                  </a:lnTo>
                  <a:lnTo>
                    <a:pt x="1648" y="1254"/>
                  </a:lnTo>
                  <a:lnTo>
                    <a:pt x="1627" y="1255"/>
                  </a:lnTo>
                  <a:lnTo>
                    <a:pt x="1604" y="1257"/>
                  </a:lnTo>
                  <a:lnTo>
                    <a:pt x="1577" y="1264"/>
                  </a:lnTo>
                  <a:lnTo>
                    <a:pt x="1562" y="1270"/>
                  </a:lnTo>
                  <a:lnTo>
                    <a:pt x="1549" y="1276"/>
                  </a:lnTo>
                  <a:lnTo>
                    <a:pt x="1531" y="1288"/>
                  </a:lnTo>
                  <a:lnTo>
                    <a:pt x="1519" y="1303"/>
                  </a:lnTo>
                  <a:lnTo>
                    <a:pt x="1510" y="1317"/>
                  </a:lnTo>
                  <a:lnTo>
                    <a:pt x="1501" y="1333"/>
                  </a:lnTo>
                  <a:lnTo>
                    <a:pt x="1497" y="1350"/>
                  </a:lnTo>
                  <a:lnTo>
                    <a:pt x="1495" y="1368"/>
                  </a:lnTo>
                  <a:lnTo>
                    <a:pt x="1497" y="1387"/>
                  </a:lnTo>
                  <a:lnTo>
                    <a:pt x="1497" y="1420"/>
                  </a:lnTo>
                  <a:lnTo>
                    <a:pt x="1495" y="1455"/>
                  </a:lnTo>
                  <a:lnTo>
                    <a:pt x="1486" y="1480"/>
                  </a:lnTo>
                  <a:lnTo>
                    <a:pt x="1477" y="1501"/>
                  </a:lnTo>
                  <a:lnTo>
                    <a:pt x="1464" y="1516"/>
                  </a:lnTo>
                  <a:lnTo>
                    <a:pt x="1444" y="1528"/>
                  </a:lnTo>
                  <a:lnTo>
                    <a:pt x="1425" y="1539"/>
                  </a:lnTo>
                  <a:lnTo>
                    <a:pt x="1402" y="1545"/>
                  </a:lnTo>
                  <a:lnTo>
                    <a:pt x="1374" y="1551"/>
                  </a:lnTo>
                  <a:lnTo>
                    <a:pt x="1350" y="1558"/>
                  </a:lnTo>
                  <a:lnTo>
                    <a:pt x="1321" y="1563"/>
                  </a:lnTo>
                  <a:lnTo>
                    <a:pt x="1297" y="1567"/>
                  </a:lnTo>
                  <a:lnTo>
                    <a:pt x="1270" y="1573"/>
                  </a:lnTo>
                  <a:lnTo>
                    <a:pt x="1249" y="1584"/>
                  </a:lnTo>
                  <a:lnTo>
                    <a:pt x="1225" y="1594"/>
                  </a:lnTo>
                  <a:lnTo>
                    <a:pt x="1203" y="1608"/>
                  </a:lnTo>
                  <a:lnTo>
                    <a:pt x="1186" y="1626"/>
                  </a:lnTo>
                  <a:lnTo>
                    <a:pt x="1171" y="1646"/>
                  </a:lnTo>
                  <a:lnTo>
                    <a:pt x="1160" y="1672"/>
                  </a:lnTo>
                  <a:lnTo>
                    <a:pt x="1157" y="1694"/>
                  </a:lnTo>
                  <a:lnTo>
                    <a:pt x="1158" y="1720"/>
                  </a:lnTo>
                  <a:lnTo>
                    <a:pt x="1163" y="1744"/>
                  </a:lnTo>
                  <a:lnTo>
                    <a:pt x="1170" y="1769"/>
                  </a:lnTo>
                  <a:lnTo>
                    <a:pt x="1176" y="1798"/>
                  </a:lnTo>
                  <a:lnTo>
                    <a:pt x="1180" y="1823"/>
                  </a:lnTo>
                  <a:lnTo>
                    <a:pt x="1186" y="1856"/>
                  </a:lnTo>
                  <a:lnTo>
                    <a:pt x="1186" y="1889"/>
                  </a:lnTo>
                  <a:lnTo>
                    <a:pt x="1179" y="1922"/>
                  </a:lnTo>
                  <a:lnTo>
                    <a:pt x="1171" y="1948"/>
                  </a:lnTo>
                  <a:lnTo>
                    <a:pt x="1163" y="1973"/>
                  </a:lnTo>
                  <a:lnTo>
                    <a:pt x="1151" y="1997"/>
                  </a:lnTo>
                  <a:lnTo>
                    <a:pt x="1134" y="2027"/>
                  </a:lnTo>
                  <a:lnTo>
                    <a:pt x="1116" y="2046"/>
                  </a:lnTo>
                  <a:lnTo>
                    <a:pt x="1101" y="2060"/>
                  </a:lnTo>
                  <a:lnTo>
                    <a:pt x="1082" y="2076"/>
                  </a:lnTo>
                  <a:lnTo>
                    <a:pt x="1061" y="2091"/>
                  </a:lnTo>
                  <a:lnTo>
                    <a:pt x="1041" y="2099"/>
                  </a:lnTo>
                  <a:lnTo>
                    <a:pt x="1023" y="2103"/>
                  </a:lnTo>
                  <a:lnTo>
                    <a:pt x="993" y="2106"/>
                  </a:lnTo>
                  <a:lnTo>
                    <a:pt x="959" y="2108"/>
                  </a:lnTo>
                  <a:lnTo>
                    <a:pt x="917" y="2106"/>
                  </a:lnTo>
                  <a:lnTo>
                    <a:pt x="897" y="2106"/>
                  </a:lnTo>
                  <a:lnTo>
                    <a:pt x="872" y="2102"/>
                  </a:lnTo>
                  <a:lnTo>
                    <a:pt x="845" y="2094"/>
                  </a:lnTo>
                  <a:lnTo>
                    <a:pt x="821" y="2081"/>
                  </a:lnTo>
                  <a:lnTo>
                    <a:pt x="806" y="2069"/>
                  </a:lnTo>
                  <a:lnTo>
                    <a:pt x="789" y="2052"/>
                  </a:lnTo>
                  <a:lnTo>
                    <a:pt x="776" y="2037"/>
                  </a:lnTo>
                  <a:lnTo>
                    <a:pt x="763" y="2018"/>
                  </a:lnTo>
                  <a:lnTo>
                    <a:pt x="752" y="1999"/>
                  </a:lnTo>
                  <a:lnTo>
                    <a:pt x="743" y="1975"/>
                  </a:lnTo>
                  <a:lnTo>
                    <a:pt x="739" y="1949"/>
                  </a:lnTo>
                  <a:lnTo>
                    <a:pt x="737" y="1930"/>
                  </a:lnTo>
                  <a:lnTo>
                    <a:pt x="737" y="1903"/>
                  </a:lnTo>
                  <a:lnTo>
                    <a:pt x="739" y="1880"/>
                  </a:lnTo>
                  <a:lnTo>
                    <a:pt x="746" y="1856"/>
                  </a:lnTo>
                  <a:lnTo>
                    <a:pt x="752" y="1828"/>
                  </a:lnTo>
                  <a:lnTo>
                    <a:pt x="760" y="1801"/>
                  </a:lnTo>
                  <a:lnTo>
                    <a:pt x="764" y="1777"/>
                  </a:lnTo>
                  <a:lnTo>
                    <a:pt x="766" y="1754"/>
                  </a:lnTo>
                  <a:lnTo>
                    <a:pt x="764" y="1736"/>
                  </a:lnTo>
                  <a:lnTo>
                    <a:pt x="760" y="1718"/>
                  </a:lnTo>
                  <a:lnTo>
                    <a:pt x="748" y="1696"/>
                  </a:lnTo>
                  <a:lnTo>
                    <a:pt x="736" y="1681"/>
                  </a:lnTo>
                  <a:lnTo>
                    <a:pt x="721" y="1664"/>
                  </a:lnTo>
                  <a:lnTo>
                    <a:pt x="704" y="1652"/>
                  </a:lnTo>
                  <a:lnTo>
                    <a:pt x="688" y="1640"/>
                  </a:lnTo>
                  <a:lnTo>
                    <a:pt x="664" y="1632"/>
                  </a:lnTo>
                  <a:lnTo>
                    <a:pt x="643" y="1626"/>
                  </a:lnTo>
                  <a:lnTo>
                    <a:pt x="616" y="1620"/>
                  </a:lnTo>
                  <a:lnTo>
                    <a:pt x="592" y="1617"/>
                  </a:lnTo>
                  <a:lnTo>
                    <a:pt x="569" y="1611"/>
                  </a:lnTo>
                  <a:lnTo>
                    <a:pt x="542" y="1605"/>
                  </a:lnTo>
                  <a:lnTo>
                    <a:pt x="520" y="1596"/>
                  </a:lnTo>
                  <a:lnTo>
                    <a:pt x="493" y="1588"/>
                  </a:lnTo>
                  <a:lnTo>
                    <a:pt x="472" y="1579"/>
                  </a:lnTo>
                  <a:lnTo>
                    <a:pt x="455" y="1566"/>
                  </a:lnTo>
                  <a:lnTo>
                    <a:pt x="442" y="1548"/>
                  </a:lnTo>
                  <a:lnTo>
                    <a:pt x="433" y="1525"/>
                  </a:lnTo>
                  <a:lnTo>
                    <a:pt x="425" y="1495"/>
                  </a:lnTo>
                  <a:lnTo>
                    <a:pt x="424" y="1471"/>
                  </a:lnTo>
                  <a:lnTo>
                    <a:pt x="425" y="1444"/>
                  </a:lnTo>
                  <a:lnTo>
                    <a:pt x="428" y="1423"/>
                  </a:lnTo>
                  <a:lnTo>
                    <a:pt x="425" y="1398"/>
                  </a:lnTo>
                  <a:lnTo>
                    <a:pt x="418" y="1378"/>
                  </a:lnTo>
                  <a:lnTo>
                    <a:pt x="404" y="1357"/>
                  </a:lnTo>
                  <a:lnTo>
                    <a:pt x="391" y="1344"/>
                  </a:lnTo>
                  <a:lnTo>
                    <a:pt x="375" y="1330"/>
                  </a:lnTo>
                  <a:lnTo>
                    <a:pt x="352" y="1321"/>
                  </a:lnTo>
                  <a:lnTo>
                    <a:pt x="327" y="1312"/>
                  </a:lnTo>
                  <a:lnTo>
                    <a:pt x="300" y="1309"/>
                  </a:lnTo>
                  <a:lnTo>
                    <a:pt x="277" y="1306"/>
                  </a:lnTo>
                  <a:lnTo>
                    <a:pt x="252" y="1306"/>
                  </a:lnTo>
                  <a:lnTo>
                    <a:pt x="229" y="1309"/>
                  </a:lnTo>
                  <a:lnTo>
                    <a:pt x="207" y="1311"/>
                  </a:lnTo>
                  <a:lnTo>
                    <a:pt x="184" y="1314"/>
                  </a:lnTo>
                  <a:lnTo>
                    <a:pt x="162" y="1317"/>
                  </a:lnTo>
                  <a:lnTo>
                    <a:pt x="124" y="1317"/>
                  </a:lnTo>
                  <a:lnTo>
                    <a:pt x="100" y="1315"/>
                  </a:lnTo>
                  <a:lnTo>
                    <a:pt x="75" y="1309"/>
                  </a:lnTo>
                  <a:lnTo>
                    <a:pt x="57" y="1300"/>
                  </a:lnTo>
                  <a:lnTo>
                    <a:pt x="37" y="1285"/>
                  </a:lnTo>
                  <a:lnTo>
                    <a:pt x="24" y="1269"/>
                  </a:lnTo>
                  <a:lnTo>
                    <a:pt x="15" y="1251"/>
                  </a:lnTo>
                  <a:lnTo>
                    <a:pt x="4" y="1217"/>
                  </a:lnTo>
                  <a:lnTo>
                    <a:pt x="3" y="1181"/>
                  </a:lnTo>
                  <a:lnTo>
                    <a:pt x="2" y="1145"/>
                  </a:lnTo>
                  <a:lnTo>
                    <a:pt x="0" y="1100"/>
                  </a:lnTo>
                  <a:lnTo>
                    <a:pt x="3" y="1061"/>
                  </a:lnTo>
                  <a:lnTo>
                    <a:pt x="4" y="1019"/>
                  </a:lnTo>
                  <a:lnTo>
                    <a:pt x="6" y="981"/>
                  </a:lnTo>
                  <a:lnTo>
                    <a:pt x="9" y="942"/>
                  </a:lnTo>
                  <a:lnTo>
                    <a:pt x="13" y="912"/>
                  </a:lnTo>
                  <a:lnTo>
                    <a:pt x="18" y="879"/>
                  </a:lnTo>
                  <a:lnTo>
                    <a:pt x="24" y="854"/>
                  </a:lnTo>
                  <a:lnTo>
                    <a:pt x="33" y="837"/>
                  </a:lnTo>
                  <a:lnTo>
                    <a:pt x="46" y="821"/>
                  </a:lnTo>
                  <a:lnTo>
                    <a:pt x="60" y="811"/>
                  </a:lnTo>
                  <a:lnTo>
                    <a:pt x="78" y="799"/>
                  </a:lnTo>
                  <a:lnTo>
                    <a:pt x="94" y="796"/>
                  </a:lnTo>
                  <a:lnTo>
                    <a:pt x="115" y="791"/>
                  </a:lnTo>
                  <a:lnTo>
                    <a:pt x="142" y="790"/>
                  </a:lnTo>
                  <a:lnTo>
                    <a:pt x="166" y="791"/>
                  </a:lnTo>
                  <a:lnTo>
                    <a:pt x="199" y="796"/>
                  </a:lnTo>
                  <a:lnTo>
                    <a:pt x="228" y="797"/>
                  </a:lnTo>
                  <a:lnTo>
                    <a:pt x="252" y="799"/>
                  </a:lnTo>
                  <a:lnTo>
                    <a:pt x="285" y="800"/>
                  </a:lnTo>
                  <a:lnTo>
                    <a:pt x="319" y="796"/>
                  </a:lnTo>
                  <a:lnTo>
                    <a:pt x="348" y="790"/>
                  </a:lnTo>
                  <a:lnTo>
                    <a:pt x="375" y="779"/>
                  </a:lnTo>
                  <a:lnTo>
                    <a:pt x="392" y="769"/>
                  </a:lnTo>
                  <a:lnTo>
                    <a:pt x="410" y="752"/>
                  </a:lnTo>
                  <a:lnTo>
                    <a:pt x="424" y="731"/>
                  </a:lnTo>
                  <a:lnTo>
                    <a:pt x="433" y="710"/>
                  </a:lnTo>
                  <a:lnTo>
                    <a:pt x="436" y="688"/>
                  </a:lnTo>
                  <a:lnTo>
                    <a:pt x="434" y="671"/>
                  </a:lnTo>
                  <a:lnTo>
                    <a:pt x="433" y="640"/>
                  </a:lnTo>
                  <a:lnTo>
                    <a:pt x="434" y="608"/>
                  </a:lnTo>
                  <a:lnTo>
                    <a:pt x="440" y="584"/>
                  </a:lnTo>
                  <a:lnTo>
                    <a:pt x="448" y="562"/>
                  </a:lnTo>
                  <a:lnTo>
                    <a:pt x="458" y="545"/>
                  </a:lnTo>
                  <a:lnTo>
                    <a:pt x="479" y="529"/>
                  </a:lnTo>
                  <a:lnTo>
                    <a:pt x="502" y="517"/>
                  </a:lnTo>
                  <a:lnTo>
                    <a:pt x="530" y="508"/>
                  </a:lnTo>
                  <a:lnTo>
                    <a:pt x="559" y="500"/>
                  </a:lnTo>
                  <a:lnTo>
                    <a:pt x="583" y="494"/>
                  </a:lnTo>
                  <a:lnTo>
                    <a:pt x="613" y="490"/>
                  </a:lnTo>
                  <a:lnTo>
                    <a:pt x="641" y="484"/>
                  </a:lnTo>
                  <a:lnTo>
                    <a:pt x="674" y="475"/>
                  </a:lnTo>
                  <a:lnTo>
                    <a:pt x="706" y="461"/>
                  </a:lnTo>
                  <a:lnTo>
                    <a:pt x="733" y="440"/>
                  </a:lnTo>
                  <a:close/>
                </a:path>
              </a:pathLst>
            </a:custGeom>
            <a:solidFill>
              <a:srgbClr val="ff33cc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3679560" y="3168720"/>
              <a:ext cx="1895400" cy="12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CIS/2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STEP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6" name=""/>
          <p:cNvGrpSpPr/>
          <p:nvPr/>
        </p:nvGrpSpPr>
        <p:grpSpPr>
          <a:xfrm>
            <a:off x="4618080" y="3662280"/>
            <a:ext cx="2754360" cy="2237040"/>
            <a:chOff x="4618080" y="3662280"/>
            <a:chExt cx="2754360" cy="2237040"/>
          </a:xfrm>
        </p:grpSpPr>
        <p:sp>
          <p:nvSpPr>
            <p:cNvPr id="397" name=""/>
            <p:cNvSpPr/>
            <p:nvPr/>
          </p:nvSpPr>
          <p:spPr>
            <a:xfrm>
              <a:off x="4618080" y="3662280"/>
              <a:ext cx="2754360" cy="2237040"/>
            </a:xfrm>
            <a:custGeom>
              <a:avLst/>
              <a:gdLst/>
              <a:ahLst/>
              <a:rect l="l" t="t" r="r" b="b"/>
              <a:pathLst>
                <a:path w="1735" h="1409">
                  <a:moveTo>
                    <a:pt x="0" y="1113"/>
                  </a:moveTo>
                  <a:lnTo>
                    <a:pt x="0" y="1409"/>
                  </a:lnTo>
                  <a:lnTo>
                    <a:pt x="1735" y="1409"/>
                  </a:lnTo>
                  <a:lnTo>
                    <a:pt x="1733" y="0"/>
                  </a:lnTo>
                  <a:lnTo>
                    <a:pt x="1579" y="0"/>
                  </a:lnTo>
                  <a:lnTo>
                    <a:pt x="1571" y="27"/>
                  </a:lnTo>
                  <a:lnTo>
                    <a:pt x="1571" y="47"/>
                  </a:lnTo>
                  <a:lnTo>
                    <a:pt x="1576" y="74"/>
                  </a:lnTo>
                  <a:lnTo>
                    <a:pt x="1585" y="102"/>
                  </a:lnTo>
                  <a:lnTo>
                    <a:pt x="1594" y="137"/>
                  </a:lnTo>
                  <a:lnTo>
                    <a:pt x="1598" y="164"/>
                  </a:lnTo>
                  <a:lnTo>
                    <a:pt x="1598" y="188"/>
                  </a:lnTo>
                  <a:lnTo>
                    <a:pt x="1595" y="215"/>
                  </a:lnTo>
                  <a:lnTo>
                    <a:pt x="1588" y="240"/>
                  </a:lnTo>
                  <a:lnTo>
                    <a:pt x="1571" y="264"/>
                  </a:lnTo>
                  <a:lnTo>
                    <a:pt x="1552" y="285"/>
                  </a:lnTo>
                  <a:lnTo>
                    <a:pt x="1531" y="304"/>
                  </a:lnTo>
                  <a:lnTo>
                    <a:pt x="1507" y="318"/>
                  </a:lnTo>
                  <a:lnTo>
                    <a:pt x="1478" y="328"/>
                  </a:lnTo>
                  <a:lnTo>
                    <a:pt x="1453" y="334"/>
                  </a:lnTo>
                  <a:lnTo>
                    <a:pt x="1417" y="336"/>
                  </a:lnTo>
                  <a:lnTo>
                    <a:pt x="1375" y="333"/>
                  </a:lnTo>
                  <a:lnTo>
                    <a:pt x="1348" y="328"/>
                  </a:lnTo>
                  <a:lnTo>
                    <a:pt x="1324" y="322"/>
                  </a:lnTo>
                  <a:lnTo>
                    <a:pt x="1302" y="309"/>
                  </a:lnTo>
                  <a:lnTo>
                    <a:pt x="1273" y="286"/>
                  </a:lnTo>
                  <a:lnTo>
                    <a:pt x="1255" y="265"/>
                  </a:lnTo>
                  <a:lnTo>
                    <a:pt x="1239" y="243"/>
                  </a:lnTo>
                  <a:lnTo>
                    <a:pt x="1230" y="219"/>
                  </a:lnTo>
                  <a:lnTo>
                    <a:pt x="1224" y="197"/>
                  </a:lnTo>
                  <a:lnTo>
                    <a:pt x="1224" y="171"/>
                  </a:lnTo>
                  <a:lnTo>
                    <a:pt x="1227" y="146"/>
                  </a:lnTo>
                  <a:lnTo>
                    <a:pt x="1233" y="122"/>
                  </a:lnTo>
                  <a:lnTo>
                    <a:pt x="1239" y="99"/>
                  </a:lnTo>
                  <a:lnTo>
                    <a:pt x="1246" y="75"/>
                  </a:lnTo>
                  <a:lnTo>
                    <a:pt x="1251" y="51"/>
                  </a:lnTo>
                  <a:lnTo>
                    <a:pt x="1251" y="30"/>
                  </a:lnTo>
                  <a:lnTo>
                    <a:pt x="1245" y="6"/>
                  </a:lnTo>
                  <a:lnTo>
                    <a:pt x="954" y="6"/>
                  </a:lnTo>
                  <a:lnTo>
                    <a:pt x="957" y="56"/>
                  </a:lnTo>
                  <a:lnTo>
                    <a:pt x="954" y="90"/>
                  </a:lnTo>
                  <a:lnTo>
                    <a:pt x="953" y="119"/>
                  </a:lnTo>
                  <a:lnTo>
                    <a:pt x="953" y="144"/>
                  </a:lnTo>
                  <a:lnTo>
                    <a:pt x="950" y="171"/>
                  </a:lnTo>
                  <a:lnTo>
                    <a:pt x="944" y="198"/>
                  </a:lnTo>
                  <a:lnTo>
                    <a:pt x="936" y="216"/>
                  </a:lnTo>
                  <a:lnTo>
                    <a:pt x="926" y="233"/>
                  </a:lnTo>
                  <a:lnTo>
                    <a:pt x="911" y="246"/>
                  </a:lnTo>
                  <a:lnTo>
                    <a:pt x="894" y="256"/>
                  </a:lnTo>
                  <a:lnTo>
                    <a:pt x="875" y="262"/>
                  </a:lnTo>
                  <a:lnTo>
                    <a:pt x="854" y="265"/>
                  </a:lnTo>
                  <a:lnTo>
                    <a:pt x="834" y="267"/>
                  </a:lnTo>
                  <a:lnTo>
                    <a:pt x="809" y="267"/>
                  </a:lnTo>
                  <a:lnTo>
                    <a:pt x="785" y="264"/>
                  </a:lnTo>
                  <a:lnTo>
                    <a:pt x="765" y="262"/>
                  </a:lnTo>
                  <a:lnTo>
                    <a:pt x="740" y="261"/>
                  </a:lnTo>
                  <a:lnTo>
                    <a:pt x="713" y="258"/>
                  </a:lnTo>
                  <a:lnTo>
                    <a:pt x="683" y="258"/>
                  </a:lnTo>
                  <a:lnTo>
                    <a:pt x="657" y="261"/>
                  </a:lnTo>
                  <a:lnTo>
                    <a:pt x="632" y="264"/>
                  </a:lnTo>
                  <a:lnTo>
                    <a:pt x="605" y="271"/>
                  </a:lnTo>
                  <a:lnTo>
                    <a:pt x="586" y="282"/>
                  </a:lnTo>
                  <a:lnTo>
                    <a:pt x="565" y="295"/>
                  </a:lnTo>
                  <a:lnTo>
                    <a:pt x="551" y="313"/>
                  </a:lnTo>
                  <a:lnTo>
                    <a:pt x="538" y="333"/>
                  </a:lnTo>
                  <a:lnTo>
                    <a:pt x="532" y="352"/>
                  </a:lnTo>
                  <a:lnTo>
                    <a:pt x="529" y="375"/>
                  </a:lnTo>
                  <a:lnTo>
                    <a:pt x="532" y="397"/>
                  </a:lnTo>
                  <a:lnTo>
                    <a:pt x="533" y="421"/>
                  </a:lnTo>
                  <a:lnTo>
                    <a:pt x="532" y="447"/>
                  </a:lnTo>
                  <a:lnTo>
                    <a:pt x="527" y="466"/>
                  </a:lnTo>
                  <a:lnTo>
                    <a:pt x="521" y="487"/>
                  </a:lnTo>
                  <a:lnTo>
                    <a:pt x="512" y="507"/>
                  </a:lnTo>
                  <a:lnTo>
                    <a:pt x="500" y="520"/>
                  </a:lnTo>
                  <a:lnTo>
                    <a:pt x="481" y="534"/>
                  </a:lnTo>
                  <a:lnTo>
                    <a:pt x="457" y="543"/>
                  </a:lnTo>
                  <a:lnTo>
                    <a:pt x="433" y="550"/>
                  </a:lnTo>
                  <a:lnTo>
                    <a:pt x="410" y="556"/>
                  </a:lnTo>
                  <a:lnTo>
                    <a:pt x="386" y="562"/>
                  </a:lnTo>
                  <a:lnTo>
                    <a:pt x="355" y="568"/>
                  </a:lnTo>
                  <a:lnTo>
                    <a:pt x="331" y="573"/>
                  </a:lnTo>
                  <a:lnTo>
                    <a:pt x="305" y="580"/>
                  </a:lnTo>
                  <a:lnTo>
                    <a:pt x="284" y="588"/>
                  </a:lnTo>
                  <a:lnTo>
                    <a:pt x="263" y="597"/>
                  </a:lnTo>
                  <a:lnTo>
                    <a:pt x="247" y="609"/>
                  </a:lnTo>
                  <a:lnTo>
                    <a:pt x="232" y="621"/>
                  </a:lnTo>
                  <a:lnTo>
                    <a:pt x="215" y="640"/>
                  </a:lnTo>
                  <a:lnTo>
                    <a:pt x="205" y="658"/>
                  </a:lnTo>
                  <a:lnTo>
                    <a:pt x="196" y="679"/>
                  </a:lnTo>
                  <a:lnTo>
                    <a:pt x="192" y="704"/>
                  </a:lnTo>
                  <a:lnTo>
                    <a:pt x="195" y="728"/>
                  </a:lnTo>
                  <a:lnTo>
                    <a:pt x="198" y="752"/>
                  </a:lnTo>
                  <a:lnTo>
                    <a:pt x="205" y="781"/>
                  </a:lnTo>
                  <a:lnTo>
                    <a:pt x="212" y="812"/>
                  </a:lnTo>
                  <a:lnTo>
                    <a:pt x="218" y="841"/>
                  </a:lnTo>
                  <a:lnTo>
                    <a:pt x="221" y="863"/>
                  </a:lnTo>
                  <a:lnTo>
                    <a:pt x="221" y="884"/>
                  </a:lnTo>
                  <a:lnTo>
                    <a:pt x="218" y="913"/>
                  </a:lnTo>
                  <a:lnTo>
                    <a:pt x="211" y="937"/>
                  </a:lnTo>
                  <a:lnTo>
                    <a:pt x="205" y="958"/>
                  </a:lnTo>
                  <a:lnTo>
                    <a:pt x="196" y="977"/>
                  </a:lnTo>
                  <a:lnTo>
                    <a:pt x="184" y="1003"/>
                  </a:lnTo>
                  <a:lnTo>
                    <a:pt x="168" y="1031"/>
                  </a:lnTo>
                  <a:lnTo>
                    <a:pt x="150" y="1052"/>
                  </a:lnTo>
                  <a:lnTo>
                    <a:pt x="132" y="1068"/>
                  </a:lnTo>
                  <a:lnTo>
                    <a:pt x="115" y="1083"/>
                  </a:lnTo>
                  <a:lnTo>
                    <a:pt x="97" y="1095"/>
                  </a:lnTo>
                  <a:lnTo>
                    <a:pt x="79" y="1103"/>
                  </a:lnTo>
                  <a:lnTo>
                    <a:pt x="54" y="1109"/>
                  </a:lnTo>
                  <a:lnTo>
                    <a:pt x="25" y="1113"/>
                  </a:lnTo>
                  <a:lnTo>
                    <a:pt x="0" y="1113"/>
                  </a:lnTo>
                  <a:close/>
                </a:path>
              </a:pathLst>
            </a:custGeom>
            <a:solidFill>
              <a:srgbClr val="0033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5318640" y="4195800"/>
              <a:ext cx="1946880" cy="16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4x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Generi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Resource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9" name=""/>
          <p:cNvGrpSpPr/>
          <p:nvPr/>
        </p:nvGrpSpPr>
        <p:grpSpPr>
          <a:xfrm>
            <a:off x="4629240" y="1533600"/>
            <a:ext cx="2743200" cy="2668680"/>
            <a:chOff x="4629240" y="1533600"/>
            <a:chExt cx="2743200" cy="2668680"/>
          </a:xfrm>
        </p:grpSpPr>
        <p:sp>
          <p:nvSpPr>
            <p:cNvPr id="400" name=""/>
            <p:cNvSpPr/>
            <p:nvPr/>
          </p:nvSpPr>
          <p:spPr>
            <a:xfrm>
              <a:off x="4629240" y="153360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0" y="351"/>
                  </a:moveTo>
                  <a:lnTo>
                    <a:pt x="0" y="0"/>
                  </a:lnTo>
                  <a:lnTo>
                    <a:pt x="1726" y="0"/>
                  </a:lnTo>
                  <a:lnTo>
                    <a:pt x="1728" y="1343"/>
                  </a:lnTo>
                  <a:lnTo>
                    <a:pt x="1578" y="1343"/>
                  </a:lnTo>
                  <a:lnTo>
                    <a:pt x="1572" y="1355"/>
                  </a:lnTo>
                  <a:lnTo>
                    <a:pt x="1567" y="1371"/>
                  </a:lnTo>
                  <a:lnTo>
                    <a:pt x="1567" y="1385"/>
                  </a:lnTo>
                  <a:lnTo>
                    <a:pt x="1569" y="1401"/>
                  </a:lnTo>
                  <a:lnTo>
                    <a:pt x="1575" y="1422"/>
                  </a:lnTo>
                  <a:lnTo>
                    <a:pt x="1581" y="1449"/>
                  </a:lnTo>
                  <a:lnTo>
                    <a:pt x="1587" y="1467"/>
                  </a:lnTo>
                  <a:lnTo>
                    <a:pt x="1591" y="1490"/>
                  </a:lnTo>
                  <a:lnTo>
                    <a:pt x="1594" y="1511"/>
                  </a:lnTo>
                  <a:lnTo>
                    <a:pt x="1594" y="1532"/>
                  </a:lnTo>
                  <a:lnTo>
                    <a:pt x="1591" y="1551"/>
                  </a:lnTo>
                  <a:lnTo>
                    <a:pt x="1587" y="1572"/>
                  </a:lnTo>
                  <a:lnTo>
                    <a:pt x="1579" y="1591"/>
                  </a:lnTo>
                  <a:lnTo>
                    <a:pt x="1567" y="1606"/>
                  </a:lnTo>
                  <a:lnTo>
                    <a:pt x="1551" y="1624"/>
                  </a:lnTo>
                  <a:lnTo>
                    <a:pt x="1534" y="1638"/>
                  </a:lnTo>
                  <a:lnTo>
                    <a:pt x="1519" y="1651"/>
                  </a:lnTo>
                  <a:lnTo>
                    <a:pt x="1501" y="1662"/>
                  </a:lnTo>
                  <a:lnTo>
                    <a:pt x="1480" y="1669"/>
                  </a:lnTo>
                  <a:lnTo>
                    <a:pt x="1455" y="1677"/>
                  </a:lnTo>
                  <a:lnTo>
                    <a:pt x="1431" y="1680"/>
                  </a:lnTo>
                  <a:lnTo>
                    <a:pt x="1410" y="1681"/>
                  </a:lnTo>
                  <a:lnTo>
                    <a:pt x="1387" y="1681"/>
                  </a:lnTo>
                  <a:lnTo>
                    <a:pt x="1367" y="1680"/>
                  </a:lnTo>
                  <a:lnTo>
                    <a:pt x="1350" y="1677"/>
                  </a:lnTo>
                  <a:lnTo>
                    <a:pt x="1331" y="1671"/>
                  </a:lnTo>
                  <a:lnTo>
                    <a:pt x="1311" y="1665"/>
                  </a:lnTo>
                  <a:lnTo>
                    <a:pt x="1296" y="1656"/>
                  </a:lnTo>
                  <a:lnTo>
                    <a:pt x="1280" y="1644"/>
                  </a:lnTo>
                  <a:lnTo>
                    <a:pt x="1265" y="1629"/>
                  </a:lnTo>
                  <a:lnTo>
                    <a:pt x="1250" y="1612"/>
                  </a:lnTo>
                  <a:lnTo>
                    <a:pt x="1236" y="1596"/>
                  </a:lnTo>
                  <a:lnTo>
                    <a:pt x="1226" y="1578"/>
                  </a:lnTo>
                  <a:lnTo>
                    <a:pt x="1218" y="1556"/>
                  </a:lnTo>
                  <a:lnTo>
                    <a:pt x="1212" y="1530"/>
                  </a:lnTo>
                  <a:lnTo>
                    <a:pt x="1212" y="1506"/>
                  </a:lnTo>
                  <a:lnTo>
                    <a:pt x="1218" y="1482"/>
                  </a:lnTo>
                  <a:lnTo>
                    <a:pt x="1224" y="1458"/>
                  </a:lnTo>
                  <a:lnTo>
                    <a:pt x="1230" y="1434"/>
                  </a:lnTo>
                  <a:lnTo>
                    <a:pt x="1238" y="1407"/>
                  </a:lnTo>
                  <a:lnTo>
                    <a:pt x="1241" y="1386"/>
                  </a:lnTo>
                  <a:lnTo>
                    <a:pt x="1241" y="1374"/>
                  </a:lnTo>
                  <a:lnTo>
                    <a:pt x="1239" y="1364"/>
                  </a:lnTo>
                  <a:lnTo>
                    <a:pt x="1235" y="1352"/>
                  </a:lnTo>
                  <a:lnTo>
                    <a:pt x="947" y="1352"/>
                  </a:lnTo>
                  <a:lnTo>
                    <a:pt x="952" y="1301"/>
                  </a:lnTo>
                  <a:lnTo>
                    <a:pt x="950" y="1272"/>
                  </a:lnTo>
                  <a:lnTo>
                    <a:pt x="947" y="1245"/>
                  </a:lnTo>
                  <a:lnTo>
                    <a:pt x="944" y="1220"/>
                  </a:lnTo>
                  <a:lnTo>
                    <a:pt x="940" y="1203"/>
                  </a:lnTo>
                  <a:lnTo>
                    <a:pt x="932" y="1188"/>
                  </a:lnTo>
                  <a:lnTo>
                    <a:pt x="923" y="1175"/>
                  </a:lnTo>
                  <a:lnTo>
                    <a:pt x="908" y="1163"/>
                  </a:lnTo>
                  <a:lnTo>
                    <a:pt x="892" y="1153"/>
                  </a:lnTo>
                  <a:lnTo>
                    <a:pt x="875" y="1147"/>
                  </a:lnTo>
                  <a:lnTo>
                    <a:pt x="860" y="1144"/>
                  </a:lnTo>
                  <a:lnTo>
                    <a:pt x="835" y="1142"/>
                  </a:lnTo>
                  <a:lnTo>
                    <a:pt x="805" y="1142"/>
                  </a:lnTo>
                  <a:lnTo>
                    <a:pt x="776" y="1145"/>
                  </a:lnTo>
                  <a:lnTo>
                    <a:pt x="745" y="1147"/>
                  </a:lnTo>
                  <a:lnTo>
                    <a:pt x="721" y="1150"/>
                  </a:lnTo>
                  <a:lnTo>
                    <a:pt x="689" y="1151"/>
                  </a:lnTo>
                  <a:lnTo>
                    <a:pt x="664" y="1150"/>
                  </a:lnTo>
                  <a:lnTo>
                    <a:pt x="641" y="1147"/>
                  </a:lnTo>
                  <a:lnTo>
                    <a:pt x="607" y="1139"/>
                  </a:lnTo>
                  <a:lnTo>
                    <a:pt x="585" y="1129"/>
                  </a:lnTo>
                  <a:lnTo>
                    <a:pt x="564" y="1114"/>
                  </a:lnTo>
                  <a:lnTo>
                    <a:pt x="550" y="1097"/>
                  </a:lnTo>
                  <a:lnTo>
                    <a:pt x="538" y="1079"/>
                  </a:lnTo>
                  <a:lnTo>
                    <a:pt x="529" y="1057"/>
                  </a:lnTo>
                  <a:lnTo>
                    <a:pt x="528" y="1033"/>
                  </a:lnTo>
                  <a:lnTo>
                    <a:pt x="528" y="1003"/>
                  </a:lnTo>
                  <a:lnTo>
                    <a:pt x="529" y="980"/>
                  </a:lnTo>
                  <a:lnTo>
                    <a:pt x="528" y="958"/>
                  </a:lnTo>
                  <a:lnTo>
                    <a:pt x="522" y="932"/>
                  </a:lnTo>
                  <a:lnTo>
                    <a:pt x="517" y="917"/>
                  </a:lnTo>
                  <a:lnTo>
                    <a:pt x="510" y="902"/>
                  </a:lnTo>
                  <a:lnTo>
                    <a:pt x="501" y="892"/>
                  </a:lnTo>
                  <a:lnTo>
                    <a:pt x="492" y="883"/>
                  </a:lnTo>
                  <a:lnTo>
                    <a:pt x="472" y="874"/>
                  </a:lnTo>
                  <a:lnTo>
                    <a:pt x="450" y="863"/>
                  </a:lnTo>
                  <a:lnTo>
                    <a:pt x="424" y="856"/>
                  </a:lnTo>
                  <a:lnTo>
                    <a:pt x="394" y="848"/>
                  </a:lnTo>
                  <a:lnTo>
                    <a:pt x="364" y="842"/>
                  </a:lnTo>
                  <a:lnTo>
                    <a:pt x="333" y="838"/>
                  </a:lnTo>
                  <a:lnTo>
                    <a:pt x="310" y="830"/>
                  </a:lnTo>
                  <a:lnTo>
                    <a:pt x="286" y="823"/>
                  </a:lnTo>
                  <a:lnTo>
                    <a:pt x="262" y="814"/>
                  </a:lnTo>
                  <a:lnTo>
                    <a:pt x="246" y="800"/>
                  </a:lnTo>
                  <a:lnTo>
                    <a:pt x="226" y="784"/>
                  </a:lnTo>
                  <a:lnTo>
                    <a:pt x="213" y="769"/>
                  </a:lnTo>
                  <a:lnTo>
                    <a:pt x="201" y="751"/>
                  </a:lnTo>
                  <a:lnTo>
                    <a:pt x="192" y="730"/>
                  </a:lnTo>
                  <a:lnTo>
                    <a:pt x="189" y="708"/>
                  </a:lnTo>
                  <a:lnTo>
                    <a:pt x="189" y="687"/>
                  </a:lnTo>
                  <a:lnTo>
                    <a:pt x="194" y="667"/>
                  </a:lnTo>
                  <a:lnTo>
                    <a:pt x="201" y="639"/>
                  </a:lnTo>
                  <a:lnTo>
                    <a:pt x="208" y="610"/>
                  </a:lnTo>
                  <a:lnTo>
                    <a:pt x="211" y="585"/>
                  </a:lnTo>
                  <a:lnTo>
                    <a:pt x="217" y="559"/>
                  </a:lnTo>
                  <a:lnTo>
                    <a:pt x="220" y="534"/>
                  </a:lnTo>
                  <a:lnTo>
                    <a:pt x="217" y="507"/>
                  </a:lnTo>
                  <a:lnTo>
                    <a:pt x="211" y="483"/>
                  </a:lnTo>
                  <a:lnTo>
                    <a:pt x="202" y="459"/>
                  </a:lnTo>
                  <a:lnTo>
                    <a:pt x="191" y="436"/>
                  </a:lnTo>
                  <a:lnTo>
                    <a:pt x="177" y="418"/>
                  </a:lnTo>
                  <a:lnTo>
                    <a:pt x="170" y="408"/>
                  </a:lnTo>
                  <a:lnTo>
                    <a:pt x="156" y="394"/>
                  </a:lnTo>
                  <a:lnTo>
                    <a:pt x="143" y="383"/>
                  </a:lnTo>
                  <a:lnTo>
                    <a:pt x="129" y="374"/>
                  </a:lnTo>
                  <a:lnTo>
                    <a:pt x="111" y="365"/>
                  </a:lnTo>
                  <a:lnTo>
                    <a:pt x="93" y="359"/>
                  </a:lnTo>
                  <a:lnTo>
                    <a:pt x="71" y="353"/>
                  </a:lnTo>
                  <a:lnTo>
                    <a:pt x="45" y="351"/>
                  </a:lnTo>
                  <a:lnTo>
                    <a:pt x="23" y="351"/>
                  </a:lnTo>
                  <a:lnTo>
                    <a:pt x="0" y="351"/>
                  </a:lnTo>
                  <a:close/>
                </a:path>
              </a:pathLst>
            </a:custGeom>
            <a:solidFill>
              <a:srgbClr val="cc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4946040" y="1619280"/>
              <a:ext cx="2386080" cy="16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21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Physical Fil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Forma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2" name=""/>
          <p:cNvGrpSpPr/>
          <p:nvPr/>
        </p:nvGrpSpPr>
        <p:grpSpPr>
          <a:xfrm>
            <a:off x="1874880" y="1533600"/>
            <a:ext cx="2754360" cy="2236680"/>
            <a:chOff x="1874880" y="1533600"/>
            <a:chExt cx="2754360" cy="2236680"/>
          </a:xfrm>
        </p:grpSpPr>
        <p:sp>
          <p:nvSpPr>
            <p:cNvPr id="403" name=""/>
            <p:cNvSpPr/>
            <p:nvPr/>
          </p:nvSpPr>
          <p:spPr>
            <a:xfrm>
              <a:off x="1874880" y="1533600"/>
              <a:ext cx="2754360" cy="2236680"/>
            </a:xfrm>
            <a:custGeom>
              <a:avLst/>
              <a:gdLst/>
              <a:ahLst/>
              <a:rect l="l" t="t" r="r" b="b"/>
              <a:pathLst>
                <a:path w="1735" h="1409">
                  <a:moveTo>
                    <a:pt x="1735" y="351"/>
                  </a:moveTo>
                  <a:lnTo>
                    <a:pt x="1735" y="0"/>
                  </a:lnTo>
                  <a:lnTo>
                    <a:pt x="0" y="0"/>
                  </a:lnTo>
                  <a:lnTo>
                    <a:pt x="2" y="1409"/>
                  </a:lnTo>
                  <a:lnTo>
                    <a:pt x="156" y="1409"/>
                  </a:lnTo>
                  <a:lnTo>
                    <a:pt x="164" y="1382"/>
                  </a:lnTo>
                  <a:lnTo>
                    <a:pt x="164" y="1362"/>
                  </a:lnTo>
                  <a:lnTo>
                    <a:pt x="159" y="1335"/>
                  </a:lnTo>
                  <a:lnTo>
                    <a:pt x="150" y="1307"/>
                  </a:lnTo>
                  <a:lnTo>
                    <a:pt x="141" y="1272"/>
                  </a:lnTo>
                  <a:lnTo>
                    <a:pt x="137" y="1245"/>
                  </a:lnTo>
                  <a:lnTo>
                    <a:pt x="135" y="1221"/>
                  </a:lnTo>
                  <a:lnTo>
                    <a:pt x="140" y="1194"/>
                  </a:lnTo>
                  <a:lnTo>
                    <a:pt x="147" y="1169"/>
                  </a:lnTo>
                  <a:lnTo>
                    <a:pt x="164" y="1144"/>
                  </a:lnTo>
                  <a:lnTo>
                    <a:pt x="183" y="1124"/>
                  </a:lnTo>
                  <a:lnTo>
                    <a:pt x="204" y="1105"/>
                  </a:lnTo>
                  <a:lnTo>
                    <a:pt x="228" y="1091"/>
                  </a:lnTo>
                  <a:lnTo>
                    <a:pt x="257" y="1079"/>
                  </a:lnTo>
                  <a:lnTo>
                    <a:pt x="282" y="1075"/>
                  </a:lnTo>
                  <a:lnTo>
                    <a:pt x="318" y="1073"/>
                  </a:lnTo>
                  <a:lnTo>
                    <a:pt x="360" y="1076"/>
                  </a:lnTo>
                  <a:lnTo>
                    <a:pt x="387" y="1079"/>
                  </a:lnTo>
                  <a:lnTo>
                    <a:pt x="411" y="1087"/>
                  </a:lnTo>
                  <a:lnTo>
                    <a:pt x="433" y="1100"/>
                  </a:lnTo>
                  <a:lnTo>
                    <a:pt x="462" y="1123"/>
                  </a:lnTo>
                  <a:lnTo>
                    <a:pt x="480" y="1144"/>
                  </a:lnTo>
                  <a:lnTo>
                    <a:pt x="496" y="1166"/>
                  </a:lnTo>
                  <a:lnTo>
                    <a:pt x="505" y="1190"/>
                  </a:lnTo>
                  <a:lnTo>
                    <a:pt x="511" y="1212"/>
                  </a:lnTo>
                  <a:lnTo>
                    <a:pt x="511" y="1238"/>
                  </a:lnTo>
                  <a:lnTo>
                    <a:pt x="508" y="1263"/>
                  </a:lnTo>
                  <a:lnTo>
                    <a:pt x="502" y="1287"/>
                  </a:lnTo>
                  <a:lnTo>
                    <a:pt x="496" y="1310"/>
                  </a:lnTo>
                  <a:lnTo>
                    <a:pt x="489" y="1334"/>
                  </a:lnTo>
                  <a:lnTo>
                    <a:pt x="484" y="1358"/>
                  </a:lnTo>
                  <a:lnTo>
                    <a:pt x="484" y="1379"/>
                  </a:lnTo>
                  <a:lnTo>
                    <a:pt x="490" y="1403"/>
                  </a:lnTo>
                  <a:lnTo>
                    <a:pt x="781" y="1403"/>
                  </a:lnTo>
                  <a:lnTo>
                    <a:pt x="778" y="1353"/>
                  </a:lnTo>
                  <a:lnTo>
                    <a:pt x="781" y="1317"/>
                  </a:lnTo>
                  <a:lnTo>
                    <a:pt x="781" y="1290"/>
                  </a:lnTo>
                  <a:lnTo>
                    <a:pt x="782" y="1265"/>
                  </a:lnTo>
                  <a:lnTo>
                    <a:pt x="785" y="1238"/>
                  </a:lnTo>
                  <a:lnTo>
                    <a:pt x="791" y="1211"/>
                  </a:lnTo>
                  <a:lnTo>
                    <a:pt x="799" y="1193"/>
                  </a:lnTo>
                  <a:lnTo>
                    <a:pt x="809" y="1177"/>
                  </a:lnTo>
                  <a:lnTo>
                    <a:pt x="824" y="1163"/>
                  </a:lnTo>
                  <a:lnTo>
                    <a:pt x="841" y="1153"/>
                  </a:lnTo>
                  <a:lnTo>
                    <a:pt x="860" y="1147"/>
                  </a:lnTo>
                  <a:lnTo>
                    <a:pt x="881" y="1144"/>
                  </a:lnTo>
                  <a:lnTo>
                    <a:pt x="901" y="1142"/>
                  </a:lnTo>
                  <a:lnTo>
                    <a:pt x="926" y="1142"/>
                  </a:lnTo>
                  <a:lnTo>
                    <a:pt x="950" y="1144"/>
                  </a:lnTo>
                  <a:lnTo>
                    <a:pt x="970" y="1147"/>
                  </a:lnTo>
                  <a:lnTo>
                    <a:pt x="995" y="1148"/>
                  </a:lnTo>
                  <a:lnTo>
                    <a:pt x="1022" y="1151"/>
                  </a:lnTo>
                  <a:lnTo>
                    <a:pt x="1052" y="1151"/>
                  </a:lnTo>
                  <a:lnTo>
                    <a:pt x="1078" y="1148"/>
                  </a:lnTo>
                  <a:lnTo>
                    <a:pt x="1103" y="1144"/>
                  </a:lnTo>
                  <a:lnTo>
                    <a:pt x="1130" y="1138"/>
                  </a:lnTo>
                  <a:lnTo>
                    <a:pt x="1150" y="1127"/>
                  </a:lnTo>
                  <a:lnTo>
                    <a:pt x="1170" y="1114"/>
                  </a:lnTo>
                  <a:lnTo>
                    <a:pt x="1184" y="1096"/>
                  </a:lnTo>
                  <a:lnTo>
                    <a:pt x="1197" y="1076"/>
                  </a:lnTo>
                  <a:lnTo>
                    <a:pt x="1203" y="1057"/>
                  </a:lnTo>
                  <a:lnTo>
                    <a:pt x="1206" y="1034"/>
                  </a:lnTo>
                  <a:lnTo>
                    <a:pt x="1203" y="1012"/>
                  </a:lnTo>
                  <a:lnTo>
                    <a:pt x="1202" y="988"/>
                  </a:lnTo>
                  <a:lnTo>
                    <a:pt x="1203" y="962"/>
                  </a:lnTo>
                  <a:lnTo>
                    <a:pt x="1208" y="943"/>
                  </a:lnTo>
                  <a:lnTo>
                    <a:pt x="1214" y="922"/>
                  </a:lnTo>
                  <a:lnTo>
                    <a:pt x="1223" y="902"/>
                  </a:lnTo>
                  <a:lnTo>
                    <a:pt x="1235" y="889"/>
                  </a:lnTo>
                  <a:lnTo>
                    <a:pt x="1254" y="875"/>
                  </a:lnTo>
                  <a:lnTo>
                    <a:pt x="1278" y="866"/>
                  </a:lnTo>
                  <a:lnTo>
                    <a:pt x="1302" y="859"/>
                  </a:lnTo>
                  <a:lnTo>
                    <a:pt x="1325" y="853"/>
                  </a:lnTo>
                  <a:lnTo>
                    <a:pt x="1349" y="847"/>
                  </a:lnTo>
                  <a:lnTo>
                    <a:pt x="1380" y="841"/>
                  </a:lnTo>
                  <a:lnTo>
                    <a:pt x="1404" y="836"/>
                  </a:lnTo>
                  <a:lnTo>
                    <a:pt x="1430" y="829"/>
                  </a:lnTo>
                  <a:lnTo>
                    <a:pt x="1451" y="821"/>
                  </a:lnTo>
                  <a:lnTo>
                    <a:pt x="1472" y="812"/>
                  </a:lnTo>
                  <a:lnTo>
                    <a:pt x="1488" y="800"/>
                  </a:lnTo>
                  <a:lnTo>
                    <a:pt x="1503" y="788"/>
                  </a:lnTo>
                  <a:lnTo>
                    <a:pt x="1520" y="769"/>
                  </a:lnTo>
                  <a:lnTo>
                    <a:pt x="1530" y="751"/>
                  </a:lnTo>
                  <a:lnTo>
                    <a:pt x="1539" y="730"/>
                  </a:lnTo>
                  <a:lnTo>
                    <a:pt x="1544" y="703"/>
                  </a:lnTo>
                  <a:lnTo>
                    <a:pt x="1541" y="681"/>
                  </a:lnTo>
                  <a:lnTo>
                    <a:pt x="1538" y="657"/>
                  </a:lnTo>
                  <a:lnTo>
                    <a:pt x="1530" y="628"/>
                  </a:lnTo>
                  <a:lnTo>
                    <a:pt x="1523" y="597"/>
                  </a:lnTo>
                  <a:lnTo>
                    <a:pt x="1515" y="568"/>
                  </a:lnTo>
                  <a:lnTo>
                    <a:pt x="1514" y="546"/>
                  </a:lnTo>
                  <a:lnTo>
                    <a:pt x="1514" y="525"/>
                  </a:lnTo>
                  <a:lnTo>
                    <a:pt x="1517" y="496"/>
                  </a:lnTo>
                  <a:lnTo>
                    <a:pt x="1524" y="472"/>
                  </a:lnTo>
                  <a:lnTo>
                    <a:pt x="1532" y="454"/>
                  </a:lnTo>
                  <a:lnTo>
                    <a:pt x="1542" y="436"/>
                  </a:lnTo>
                  <a:lnTo>
                    <a:pt x="1557" y="417"/>
                  </a:lnTo>
                  <a:lnTo>
                    <a:pt x="1573" y="397"/>
                  </a:lnTo>
                  <a:lnTo>
                    <a:pt x="1594" y="381"/>
                  </a:lnTo>
                  <a:lnTo>
                    <a:pt x="1617" y="368"/>
                  </a:lnTo>
                  <a:lnTo>
                    <a:pt x="1638" y="360"/>
                  </a:lnTo>
                  <a:lnTo>
                    <a:pt x="1659" y="354"/>
                  </a:lnTo>
                  <a:lnTo>
                    <a:pt x="1681" y="351"/>
                  </a:lnTo>
                  <a:lnTo>
                    <a:pt x="1708" y="351"/>
                  </a:lnTo>
                  <a:lnTo>
                    <a:pt x="1735" y="351"/>
                  </a:lnTo>
                  <a:close/>
                </a:path>
              </a:pathLst>
            </a:custGeom>
            <a:solidFill>
              <a:srgbClr val="008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1917000" y="1663560"/>
              <a:ext cx="2010960" cy="11300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11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EXPRES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5" name=""/>
          <p:cNvGrpSpPr/>
          <p:nvPr/>
        </p:nvGrpSpPr>
        <p:grpSpPr>
          <a:xfrm>
            <a:off x="1874880" y="3230640"/>
            <a:ext cx="2743200" cy="2668680"/>
            <a:chOff x="1874880" y="3230640"/>
            <a:chExt cx="2743200" cy="2668680"/>
          </a:xfrm>
        </p:grpSpPr>
        <p:sp>
          <p:nvSpPr>
            <p:cNvPr id="406" name=""/>
            <p:cNvSpPr/>
            <p:nvPr/>
          </p:nvSpPr>
          <p:spPr>
            <a:xfrm>
              <a:off x="1874880" y="323064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9933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1961280" y="4581360"/>
              <a:ext cx="1767240" cy="119124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22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SDAI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9" name=""/>
          <p:cNvGrpSpPr/>
          <p:nvPr/>
        </p:nvGrpSpPr>
        <p:grpSpPr>
          <a:xfrm>
            <a:off x="4629240" y="1533600"/>
            <a:ext cx="2743200" cy="2668680"/>
            <a:chOff x="4629240" y="1533600"/>
            <a:chExt cx="2743200" cy="2668680"/>
          </a:xfrm>
        </p:grpSpPr>
        <p:sp>
          <p:nvSpPr>
            <p:cNvPr id="410" name=""/>
            <p:cNvSpPr/>
            <p:nvPr/>
          </p:nvSpPr>
          <p:spPr>
            <a:xfrm>
              <a:off x="4629240" y="153360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0" y="351"/>
                  </a:moveTo>
                  <a:lnTo>
                    <a:pt x="0" y="0"/>
                  </a:lnTo>
                  <a:lnTo>
                    <a:pt x="1726" y="0"/>
                  </a:lnTo>
                  <a:lnTo>
                    <a:pt x="1728" y="1343"/>
                  </a:lnTo>
                  <a:lnTo>
                    <a:pt x="1578" y="1343"/>
                  </a:lnTo>
                  <a:lnTo>
                    <a:pt x="1572" y="1355"/>
                  </a:lnTo>
                  <a:lnTo>
                    <a:pt x="1567" y="1371"/>
                  </a:lnTo>
                  <a:lnTo>
                    <a:pt x="1567" y="1385"/>
                  </a:lnTo>
                  <a:lnTo>
                    <a:pt x="1569" y="1401"/>
                  </a:lnTo>
                  <a:lnTo>
                    <a:pt x="1575" y="1422"/>
                  </a:lnTo>
                  <a:lnTo>
                    <a:pt x="1581" y="1449"/>
                  </a:lnTo>
                  <a:lnTo>
                    <a:pt x="1587" y="1467"/>
                  </a:lnTo>
                  <a:lnTo>
                    <a:pt x="1591" y="1490"/>
                  </a:lnTo>
                  <a:lnTo>
                    <a:pt x="1594" y="1511"/>
                  </a:lnTo>
                  <a:lnTo>
                    <a:pt x="1594" y="1532"/>
                  </a:lnTo>
                  <a:lnTo>
                    <a:pt x="1591" y="1551"/>
                  </a:lnTo>
                  <a:lnTo>
                    <a:pt x="1587" y="1572"/>
                  </a:lnTo>
                  <a:lnTo>
                    <a:pt x="1579" y="1591"/>
                  </a:lnTo>
                  <a:lnTo>
                    <a:pt x="1567" y="1606"/>
                  </a:lnTo>
                  <a:lnTo>
                    <a:pt x="1551" y="1624"/>
                  </a:lnTo>
                  <a:lnTo>
                    <a:pt x="1534" y="1638"/>
                  </a:lnTo>
                  <a:lnTo>
                    <a:pt x="1519" y="1651"/>
                  </a:lnTo>
                  <a:lnTo>
                    <a:pt x="1501" y="1662"/>
                  </a:lnTo>
                  <a:lnTo>
                    <a:pt x="1480" y="1669"/>
                  </a:lnTo>
                  <a:lnTo>
                    <a:pt x="1455" y="1677"/>
                  </a:lnTo>
                  <a:lnTo>
                    <a:pt x="1431" y="1680"/>
                  </a:lnTo>
                  <a:lnTo>
                    <a:pt x="1410" y="1681"/>
                  </a:lnTo>
                  <a:lnTo>
                    <a:pt x="1387" y="1681"/>
                  </a:lnTo>
                  <a:lnTo>
                    <a:pt x="1367" y="1680"/>
                  </a:lnTo>
                  <a:lnTo>
                    <a:pt x="1350" y="1677"/>
                  </a:lnTo>
                  <a:lnTo>
                    <a:pt x="1331" y="1671"/>
                  </a:lnTo>
                  <a:lnTo>
                    <a:pt x="1311" y="1665"/>
                  </a:lnTo>
                  <a:lnTo>
                    <a:pt x="1296" y="1656"/>
                  </a:lnTo>
                  <a:lnTo>
                    <a:pt x="1280" y="1644"/>
                  </a:lnTo>
                  <a:lnTo>
                    <a:pt x="1265" y="1629"/>
                  </a:lnTo>
                  <a:lnTo>
                    <a:pt x="1250" y="1612"/>
                  </a:lnTo>
                  <a:lnTo>
                    <a:pt x="1236" y="1596"/>
                  </a:lnTo>
                  <a:lnTo>
                    <a:pt x="1226" y="1578"/>
                  </a:lnTo>
                  <a:lnTo>
                    <a:pt x="1218" y="1556"/>
                  </a:lnTo>
                  <a:lnTo>
                    <a:pt x="1212" y="1530"/>
                  </a:lnTo>
                  <a:lnTo>
                    <a:pt x="1212" y="1506"/>
                  </a:lnTo>
                  <a:lnTo>
                    <a:pt x="1218" y="1482"/>
                  </a:lnTo>
                  <a:lnTo>
                    <a:pt x="1224" y="1458"/>
                  </a:lnTo>
                  <a:lnTo>
                    <a:pt x="1230" y="1434"/>
                  </a:lnTo>
                  <a:lnTo>
                    <a:pt x="1238" y="1407"/>
                  </a:lnTo>
                  <a:lnTo>
                    <a:pt x="1241" y="1386"/>
                  </a:lnTo>
                  <a:lnTo>
                    <a:pt x="1241" y="1374"/>
                  </a:lnTo>
                  <a:lnTo>
                    <a:pt x="1239" y="1364"/>
                  </a:lnTo>
                  <a:lnTo>
                    <a:pt x="1235" y="1352"/>
                  </a:lnTo>
                  <a:lnTo>
                    <a:pt x="947" y="1352"/>
                  </a:lnTo>
                  <a:lnTo>
                    <a:pt x="952" y="1301"/>
                  </a:lnTo>
                  <a:lnTo>
                    <a:pt x="950" y="1272"/>
                  </a:lnTo>
                  <a:lnTo>
                    <a:pt x="947" y="1245"/>
                  </a:lnTo>
                  <a:lnTo>
                    <a:pt x="944" y="1220"/>
                  </a:lnTo>
                  <a:lnTo>
                    <a:pt x="940" y="1203"/>
                  </a:lnTo>
                  <a:lnTo>
                    <a:pt x="932" y="1188"/>
                  </a:lnTo>
                  <a:lnTo>
                    <a:pt x="923" y="1175"/>
                  </a:lnTo>
                  <a:lnTo>
                    <a:pt x="908" y="1163"/>
                  </a:lnTo>
                  <a:lnTo>
                    <a:pt x="892" y="1153"/>
                  </a:lnTo>
                  <a:lnTo>
                    <a:pt x="875" y="1147"/>
                  </a:lnTo>
                  <a:lnTo>
                    <a:pt x="860" y="1144"/>
                  </a:lnTo>
                  <a:lnTo>
                    <a:pt x="835" y="1142"/>
                  </a:lnTo>
                  <a:lnTo>
                    <a:pt x="805" y="1142"/>
                  </a:lnTo>
                  <a:lnTo>
                    <a:pt x="776" y="1145"/>
                  </a:lnTo>
                  <a:lnTo>
                    <a:pt x="745" y="1147"/>
                  </a:lnTo>
                  <a:lnTo>
                    <a:pt x="721" y="1150"/>
                  </a:lnTo>
                  <a:lnTo>
                    <a:pt x="689" y="1151"/>
                  </a:lnTo>
                  <a:lnTo>
                    <a:pt x="664" y="1150"/>
                  </a:lnTo>
                  <a:lnTo>
                    <a:pt x="641" y="1147"/>
                  </a:lnTo>
                  <a:lnTo>
                    <a:pt x="607" y="1139"/>
                  </a:lnTo>
                  <a:lnTo>
                    <a:pt x="585" y="1129"/>
                  </a:lnTo>
                  <a:lnTo>
                    <a:pt x="564" y="1114"/>
                  </a:lnTo>
                  <a:lnTo>
                    <a:pt x="550" y="1097"/>
                  </a:lnTo>
                  <a:lnTo>
                    <a:pt x="538" y="1079"/>
                  </a:lnTo>
                  <a:lnTo>
                    <a:pt x="529" y="1057"/>
                  </a:lnTo>
                  <a:lnTo>
                    <a:pt x="528" y="1033"/>
                  </a:lnTo>
                  <a:lnTo>
                    <a:pt x="528" y="1003"/>
                  </a:lnTo>
                  <a:lnTo>
                    <a:pt x="529" y="980"/>
                  </a:lnTo>
                  <a:lnTo>
                    <a:pt x="528" y="958"/>
                  </a:lnTo>
                  <a:lnTo>
                    <a:pt x="522" y="932"/>
                  </a:lnTo>
                  <a:lnTo>
                    <a:pt x="517" y="917"/>
                  </a:lnTo>
                  <a:lnTo>
                    <a:pt x="510" y="902"/>
                  </a:lnTo>
                  <a:lnTo>
                    <a:pt x="501" y="892"/>
                  </a:lnTo>
                  <a:lnTo>
                    <a:pt x="492" y="883"/>
                  </a:lnTo>
                  <a:lnTo>
                    <a:pt x="472" y="874"/>
                  </a:lnTo>
                  <a:lnTo>
                    <a:pt x="450" y="863"/>
                  </a:lnTo>
                  <a:lnTo>
                    <a:pt x="424" y="856"/>
                  </a:lnTo>
                  <a:lnTo>
                    <a:pt x="394" y="848"/>
                  </a:lnTo>
                  <a:lnTo>
                    <a:pt x="364" y="842"/>
                  </a:lnTo>
                  <a:lnTo>
                    <a:pt x="333" y="838"/>
                  </a:lnTo>
                  <a:lnTo>
                    <a:pt x="310" y="830"/>
                  </a:lnTo>
                  <a:lnTo>
                    <a:pt x="286" y="823"/>
                  </a:lnTo>
                  <a:lnTo>
                    <a:pt x="262" y="814"/>
                  </a:lnTo>
                  <a:lnTo>
                    <a:pt x="246" y="800"/>
                  </a:lnTo>
                  <a:lnTo>
                    <a:pt x="226" y="784"/>
                  </a:lnTo>
                  <a:lnTo>
                    <a:pt x="213" y="769"/>
                  </a:lnTo>
                  <a:lnTo>
                    <a:pt x="201" y="751"/>
                  </a:lnTo>
                  <a:lnTo>
                    <a:pt x="192" y="730"/>
                  </a:lnTo>
                  <a:lnTo>
                    <a:pt x="189" y="708"/>
                  </a:lnTo>
                  <a:lnTo>
                    <a:pt x="189" y="687"/>
                  </a:lnTo>
                  <a:lnTo>
                    <a:pt x="194" y="667"/>
                  </a:lnTo>
                  <a:lnTo>
                    <a:pt x="201" y="639"/>
                  </a:lnTo>
                  <a:lnTo>
                    <a:pt x="208" y="610"/>
                  </a:lnTo>
                  <a:lnTo>
                    <a:pt x="211" y="585"/>
                  </a:lnTo>
                  <a:lnTo>
                    <a:pt x="217" y="559"/>
                  </a:lnTo>
                  <a:lnTo>
                    <a:pt x="220" y="534"/>
                  </a:lnTo>
                  <a:lnTo>
                    <a:pt x="217" y="507"/>
                  </a:lnTo>
                  <a:lnTo>
                    <a:pt x="211" y="483"/>
                  </a:lnTo>
                  <a:lnTo>
                    <a:pt x="202" y="459"/>
                  </a:lnTo>
                  <a:lnTo>
                    <a:pt x="191" y="436"/>
                  </a:lnTo>
                  <a:lnTo>
                    <a:pt x="177" y="418"/>
                  </a:lnTo>
                  <a:lnTo>
                    <a:pt x="170" y="408"/>
                  </a:lnTo>
                  <a:lnTo>
                    <a:pt x="156" y="394"/>
                  </a:lnTo>
                  <a:lnTo>
                    <a:pt x="143" y="383"/>
                  </a:lnTo>
                  <a:lnTo>
                    <a:pt x="129" y="374"/>
                  </a:lnTo>
                  <a:lnTo>
                    <a:pt x="111" y="365"/>
                  </a:lnTo>
                  <a:lnTo>
                    <a:pt x="93" y="359"/>
                  </a:lnTo>
                  <a:lnTo>
                    <a:pt x="71" y="353"/>
                  </a:lnTo>
                  <a:lnTo>
                    <a:pt x="45" y="351"/>
                  </a:lnTo>
                  <a:lnTo>
                    <a:pt x="23" y="351"/>
                  </a:lnTo>
                  <a:lnTo>
                    <a:pt x="0" y="351"/>
                  </a:lnTo>
                  <a:close/>
                </a:path>
              </a:pathLst>
            </a:custGeom>
            <a:solidFill>
              <a:srgbClr val="cc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4946040" y="1619280"/>
              <a:ext cx="2386080" cy="16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21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Physical Fil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Forma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09120" y="3330360"/>
            <a:ext cx="853452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5400" spc="-1" strike="noStrike">
                <a:solidFill>
                  <a:srgbClr val="ffff00"/>
                </a:solidFill>
                <a:latin typeface="Arial"/>
              </a:rPr>
              <a:t>Questions?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Requirements of CIS/2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For file exchange, CIS/2 specifies that: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e physical file format shall be in accordance with ISO 10303-21: 1994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November 1994 International Standard issue together with the 1996 'Technical Corrigendum'. 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Implementation Methods: ‘Clear text encoding of the exchange structure’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he Exchange Structur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 sequential file using a clear text encoding.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Described by an unambiguous, context-free grammar to facilitate parsing by software.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e grammar is expressed in Wirth Syntax Notation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onsists of two sections: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header se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providing data relating to the exchange structure itself, an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ata section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providing the data to be transferred. 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volution of STEP Part 21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768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TEP needed an instance exchange language that was: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15177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(a)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ndependent of a storage or programming paradigm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5177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(b)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xchangeable in ASCII between different computers using different operating systems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5177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ufficiently comprehensive to include instances of every type of product data defined in a STEP schema, and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5177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(d)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uditable against the schema it instantiates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7209000" y="69840"/>
          <a:ext cx="1828800" cy="193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09000" y="69840"/>
                    <a:ext cx="1828800" cy="193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he Special Token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ISO-10303-21;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used to open an exchange structure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HEADER;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used to open the header section.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DATA;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used to open the data section.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NDSEC;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s used to close both sections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ND-ISO-10303-21;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used to close an exchange structure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Header Schema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47680" y="1063440"/>
            <a:ext cx="861048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SCHEMA header_section_schema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TITY file_description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description: LIST [1:?] OF STRING (256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implementation_level: STRING (256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D_ENTITY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TITY file_name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name: STRING (256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time_stamp: STRING (256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author: LIST [1:?] OF STRING (256);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organization: LIST [1:?] OF STRING (256);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preprocessor_version: STRING (256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originating_system: STRING (256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authorization: STRING (256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D_ENTITY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924800" y="3754440"/>
            <a:ext cx="4460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TITY file_schema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schema_identifiers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LIST [1:1] OF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chema_name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TYPE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chema_name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STRING (1024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D_TYP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Header Sec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0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xample Populated Header Sectio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HEADER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FILE_DESCRIPTION (('Test case 1'),'1'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FILE_NAME ('testcase1.stp', '1999-05-19T12:16:30', ('A.J.Crowley'), ('Steel Construction Institute'), '1.5.1 (compiled 17:44 11/24/1998)', 'NIST EXPRESSO', 'ajc'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FILE_SCHEMA ((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'STRUCTURAL_FRAME_SCHEMA'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ENDSEC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16T13:32:24Z</dcterms:created>
  <dc:creator>Andrew Crowley</dc:creator>
  <dc:description/>
  <dc:language>en-US</dc:language>
  <cp:lastModifiedBy>Andrew Crowley</cp:lastModifiedBy>
  <cp:lastPrinted>1999-02-12T09:16:18Z</cp:lastPrinted>
  <dcterms:modified xsi:type="dcterms:W3CDTF">2000-08-31T10:51:00Z</dcterms:modified>
  <cp:revision>93</cp:revision>
  <dc:subject/>
  <dc:title>STEP Part 21</dc:title>
</cp:coreProperties>
</file>